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30.jpeg" ContentType="image/jpeg"/>
  <Override PartName="/ppt/media/image36.wmf" ContentType="image/x-wmf"/>
  <Override PartName="/ppt/media/image47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31.jpeg" ContentType="image/jpeg"/>
  <Override PartName="/ppt/media/image41.png" ContentType="image/png"/>
  <Override PartName="/ppt/media/image48.jpeg" ContentType="image/jpeg"/>
  <Override PartName="/ppt/media/image34.png" ContentType="image/png"/>
  <Override PartName="/ppt/media/image12.jpeg" ContentType="image/jpe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C77-4FB8-4308-A874-B7C03370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FEE-8A2C-4836-BE87-F8E114523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FCE7-BD6E-453D-8D67-77EA126E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93D-7FD2-4BCA-9271-294EA812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B37C-3E66-40FC-A794-B8D7EE461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057-882B-4732-9755-AB6E093D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2A5-BE31-48A5-BEB6-E9F812605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8AD3-A20B-42E7-88ED-7B764673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0045-11F3-4614-845A-79BBC19E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E35D-9729-4FA9-9CD1-F8DDB4F8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104-DAA1-4E2B-B151-3D58319EA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853-880B-4084-818E-08EFE3AB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722B-569B-4265-B41E-E4E4DEBD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65A7-6408-48B8-980E-54BFBDFF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062B-2981-4106-825D-F8181BD1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B8D6-B9FF-4073-82C0-BF20DD9B0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85E1-04C4-4584-8107-ACFDF92A0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7D3-E3C2-41DE-B363-8DE051AB5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142-8967-4C7E-BCD7-63A87578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1C89-020A-4255-8208-34C4816B8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752-6545-433B-800B-8DF37C704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105-6650-4385-A594-5B8F6ADD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DB6-5C06-4DEB-9BB2-ED7E00D11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5E9C-F76A-465E-B043-5670807D0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68D-1219-4ACB-AEA6-8404F7E0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4CA-B7E8-46BA-B82E-A317E45F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30A-2EEE-443B-8894-F35A490E4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DA78-8B32-4945-B388-27BC21F13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5844-24ED-4A87-9135-82FC2DE8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B09-E2FC-462F-902C-773D1F45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836B-C218-49D9-BEBB-CA3AD67B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E8F-0631-47E5-A264-F6AAC1C3B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E6D-5E96-44C9-8769-275E3A39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BBB-5ADF-4F01-90F0-A9CD305DB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3F9-B558-4FAF-AD73-A364A1802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98B-C4F2-406C-9802-F3E11C20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D73C-0540-48A7-96FB-FD694E87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150-48C3-4DA3-884C-AD3FD135C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6824-217D-4B0D-94F6-65BA099F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169-696A-477E-96D3-8E59293B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1CA-BA77-4D9A-B708-3CA53D8C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8DD-EECC-41EB-B8AE-1D8166E8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718-3443-471C-9B96-77886237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F72-7CCA-47FE-BC82-B0B1CA5F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6EB-E37C-4FFD-BD4A-F7FB6A3A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EE7D-AD4C-4F78-8292-4CDE76FB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846-F0ED-4C86-BEDC-380A0FC8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41C-2228-4A31-A4A8-E60CC741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EA4-F029-402C-8A98-44494BEDA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A0F3-3D30-475A-A80C-4289C0B7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9C1-5917-43C2-B576-C41C20C6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5E4-56BD-4EAA-801F-E7A074A2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DDB4-FA16-4D0F-A36E-A629BCF5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49B1-8963-4A78-9F78-CE7571CB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1F16-AB8E-4D23-99A0-D28DEB06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BA1-1D3B-4E74-800E-B97C8827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CDC-56CB-4434-AB8B-9FACFD0A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91C-A040-4DC0-A948-F5BA1720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197-55E0-4CD5-BD54-DD2F616C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563F-26BC-4302-B7B3-73A8AA57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451-4B4D-44D3-BBAE-A42518448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DC33-55CC-467D-999B-C681B3F5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BEB2-ABCD-41EE-A98D-063DA2A6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721-2DC4-4E68-B6B4-AB8117A8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4B-6C8A-4CAE-BA2D-BF6B68B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93F-4BE2-43AD-8216-516DDB21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E75-C2F7-4F6D-BDEA-7BF8BFC4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B8B-D45F-44C3-A0FF-69EFB5E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9BE-053E-42A3-8B50-CFE36FF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483-8316-4E48-9588-C1CB39F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80C-098F-4E0F-A9B5-9159EB5F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316-DAB1-4C57-A4C9-D1BBE31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F68-F85D-4A14-8362-BC01F5A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260-2A15-47B1-A2B1-E2A4659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E7A-A0B1-417E-B524-50411ED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2F19-E265-4050-9CD0-44A95B325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6880" y="304920"/>
            <a:ext cx="635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rainage Ba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r friend, and all of its secre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drainagebasin"/>
          <p:cNvPicPr/>
          <p:nvPr/>
        </p:nvPicPr>
        <p:blipFill>
          <a:blip r:embed="rId1"/>
          <a:stretch/>
        </p:blipFill>
        <p:spPr>
          <a:xfrm>
            <a:off x="2819520" y="1905120"/>
            <a:ext cx="343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-322560" y="345960"/>
            <a:ext cx="673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lope Hydrology and Runoff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asin Hydro. Cycle an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47240" y="171756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= Output + change in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baseflow"/>
          <p:cNvPicPr/>
          <p:nvPr/>
        </p:nvPicPr>
        <p:blipFill>
          <a:blip r:embed="rId1"/>
          <a:stretch/>
        </p:blipFill>
        <p:spPr>
          <a:xfrm>
            <a:off x="990720" y="2362320"/>
            <a:ext cx="6781680" cy="4136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858000" y="53352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verland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ase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-322560" y="345960"/>
            <a:ext cx="673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lope Hydrology and Runoff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n Hydro. Cycle an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rm Hydr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320040" y="345960"/>
            <a:ext cx="46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Storm Hydr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mds231"/>
          <p:cNvPicPr/>
          <p:nvPr/>
        </p:nvPicPr>
        <p:blipFill>
          <a:blip r:embed="rId1"/>
          <a:stretch/>
        </p:blipFill>
        <p:spPr>
          <a:xfrm>
            <a:off x="0" y="990720"/>
            <a:ext cx="8915400" cy="372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195200" y="5375160"/>
            <a:ext cx="75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t hydrograph: ‘where the runoff volume is adjus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ame unit value (e.g., one inch of rainfall spread eve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 a basin in one da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mds234"/>
          <p:cNvPicPr/>
          <p:nvPr/>
        </p:nvPicPr>
        <p:blipFill>
          <a:blip r:embed="rId1"/>
          <a:stretch/>
        </p:blipFill>
        <p:spPr>
          <a:xfrm>
            <a:off x="2057400" y="0"/>
            <a:ext cx="54957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30"/>
          <p:cNvSpPr/>
          <p:nvPr/>
        </p:nvSpPr>
        <p:spPr>
          <a:xfrm>
            <a:off x="5638680" y="25909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verland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1"/>
          <p:cNvSpPr/>
          <p:nvPr/>
        </p:nvSpPr>
        <p:spPr>
          <a:xfrm>
            <a:off x="58676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ase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2"/>
          <p:cNvSpPr/>
          <p:nvPr/>
        </p:nvSpPr>
        <p:spPr>
          <a:xfrm>
            <a:off x="5867280" y="46483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irect 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3"/>
          <p:cNvSpPr/>
          <p:nvPr/>
        </p:nvSpPr>
        <p:spPr>
          <a:xfrm>
            <a:off x="5866920" y="56386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mds237"/>
          <p:cNvPicPr/>
          <p:nvPr/>
        </p:nvPicPr>
        <p:blipFill>
          <a:blip r:embed="rId1"/>
          <a:stretch/>
        </p:blipFill>
        <p:spPr>
          <a:xfrm>
            <a:off x="1357200" y="385920"/>
            <a:ext cx="642960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mds23A"/>
          <p:cNvPicPr/>
          <p:nvPr/>
        </p:nvPicPr>
        <p:blipFill>
          <a:blip r:embed="rId1"/>
          <a:stretch/>
        </p:blipFill>
        <p:spPr>
          <a:xfrm>
            <a:off x="0" y="0"/>
            <a:ext cx="10972800" cy="6307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31"/>
          <p:cNvSpPr/>
          <p:nvPr/>
        </p:nvSpPr>
        <p:spPr>
          <a:xfrm>
            <a:off x="4344120" y="53341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n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2"/>
          <p:cNvSpPr/>
          <p:nvPr/>
        </p:nvSpPr>
        <p:spPr>
          <a:xfrm>
            <a:off x="36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mds23D"/>
          <p:cNvPicPr/>
          <p:nvPr/>
        </p:nvPicPr>
        <p:blipFill>
          <a:blip r:embed="rId1"/>
          <a:stretch/>
        </p:blipFill>
        <p:spPr>
          <a:xfrm>
            <a:off x="990720" y="380880"/>
            <a:ext cx="5709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11200" y="4222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nitiation of Channels and the Draina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85680" y="422280"/>
            <a:ext cx="752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nitiation of Channels and the Draina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hear stres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s://upload.wikimedia.org/wikipedia/commons/thumb/a/a6/Hydrographic_basin.svg/440px-Hydrographic_basin.svg.png"/>
          <p:cNvPicPr/>
          <p:nvPr/>
        </p:nvPicPr>
        <p:blipFill>
          <a:blip r:embed="rId1"/>
          <a:stretch/>
        </p:blipFill>
        <p:spPr>
          <a:xfrm>
            <a:off x="4495680" y="1905120"/>
            <a:ext cx="4822920" cy="4755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rcRect l="0" t="0" r="0" b="13580"/>
          <a:stretch/>
        </p:blipFill>
        <p:spPr>
          <a:xfrm>
            <a:off x="195120" y="2003400"/>
            <a:ext cx="4318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4000" y="422280"/>
            <a:ext cx="752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nitiation of Channels and the Draina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hear stres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mds240"/>
          <p:cNvPicPr/>
          <p:nvPr/>
        </p:nvPicPr>
        <p:blipFill>
          <a:blip r:embed="rId1"/>
          <a:stretch/>
        </p:blipFill>
        <p:spPr>
          <a:xfrm>
            <a:off x="1523880" y="2057400"/>
            <a:ext cx="4572000" cy="44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6323760" y="213372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Effe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Vegetatio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125520" y="15238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rainagebasin"/>
          <p:cNvPicPr/>
          <p:nvPr/>
        </p:nvPicPr>
        <p:blipFill>
          <a:blip r:embed="rId1"/>
          <a:stretch/>
        </p:blipFill>
        <p:spPr>
          <a:xfrm>
            <a:off x="1523880" y="304920"/>
            <a:ext cx="5089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173160" y="422280"/>
            <a:ext cx="930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nitiation of Channels and the Draina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lls develop, and they begin to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furc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eated divisions of single channel seg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mds243"/>
          <p:cNvPicPr/>
          <p:nvPr/>
        </p:nvPicPr>
        <p:blipFill>
          <a:blip r:embed="rId1"/>
          <a:stretch/>
        </p:blipFill>
        <p:spPr>
          <a:xfrm>
            <a:off x="1219320" y="3505320"/>
            <a:ext cx="60325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-173160" y="422280"/>
            <a:ext cx="93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lls develop, and they begin to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furc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eated divisions of single channel seg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ds246"/>
          <p:cNvPicPr/>
          <p:nvPr/>
        </p:nvPicPr>
        <p:blipFill>
          <a:blip r:embed="rId1"/>
          <a:stretch/>
        </p:blipFill>
        <p:spPr>
          <a:xfrm>
            <a:off x="533520" y="1600200"/>
            <a:ext cx="58672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11200" y="42228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nitiation of Channels and the Draina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asin Morph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s to the geometry of the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Oak_Oak-Leaf-2_a"/>
          <p:cNvPicPr/>
          <p:nvPr/>
        </p:nvPicPr>
        <p:blipFill>
          <a:blip r:embed="rId1"/>
          <a:stretch/>
        </p:blipFill>
        <p:spPr>
          <a:xfrm>
            <a:off x="304920" y="2057400"/>
            <a:ext cx="4162320" cy="365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M_acu_leaf1tn"/>
          <p:cNvPicPr/>
          <p:nvPr/>
        </p:nvPicPr>
        <p:blipFill>
          <a:blip r:embed="rId2"/>
          <a:stretch/>
        </p:blipFill>
        <p:spPr>
          <a:xfrm>
            <a:off x="5105520" y="1600200"/>
            <a:ext cx="3024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0680" y="0"/>
            <a:ext cx="749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asin Morph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s to the geometry of the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ainag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fers to the distinct fabric of the drainage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Oak_Oak-Leaf-2_a"/>
          <p:cNvPicPr/>
          <p:nvPr/>
        </p:nvPicPr>
        <p:blipFill>
          <a:blip r:embed="rId1"/>
          <a:stretch/>
        </p:blipFill>
        <p:spPr>
          <a:xfrm>
            <a:off x="304920" y="2057400"/>
            <a:ext cx="4162320" cy="365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M_acu_leaf1tn"/>
          <p:cNvPicPr/>
          <p:nvPr/>
        </p:nvPicPr>
        <p:blipFill>
          <a:blip r:embed="rId2"/>
          <a:stretch/>
        </p:blipFill>
        <p:spPr>
          <a:xfrm>
            <a:off x="5105520" y="1600200"/>
            <a:ext cx="3024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4000" y="4222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inag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s to the distinct fabric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inage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mds249"/>
          <p:cNvPicPr/>
          <p:nvPr/>
        </p:nvPicPr>
        <p:blipFill>
          <a:blip r:embed="rId1"/>
          <a:stretch/>
        </p:blipFill>
        <p:spPr>
          <a:xfrm>
            <a:off x="5289480" y="0"/>
            <a:ext cx="3854520" cy="6705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69240" y="217476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hler 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eve (196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5080" y="422280"/>
            <a:ext cx="79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Linear Morph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rtain linear parameters of a basin are propor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 to stream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-172800" y="2251080"/>
            <a:ext cx="82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furcation ratio (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ams of on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 of the next highes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5080" y="422280"/>
            <a:ext cx="79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Linear Morph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rtain linear parameters of a basin are propor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 to stream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-122040" y="2251080"/>
            <a:ext cx="8291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furcation ratio (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eams of on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 of the next highes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: 1 6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der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4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1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tio value is nearly constant between adjacent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….where geology is homogeneous, Rb = 3.0 –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ds24C"/>
          <p:cNvPicPr/>
          <p:nvPr/>
        </p:nvPicPr>
        <p:blipFill>
          <a:blip r:embed="rId1"/>
          <a:stretch/>
        </p:blipFill>
        <p:spPr>
          <a:xfrm>
            <a:off x="4876920" y="152280"/>
            <a:ext cx="3997080" cy="640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rainagebasin"/>
          <p:cNvPicPr/>
          <p:nvPr/>
        </p:nvPicPr>
        <p:blipFill>
          <a:blip r:embed="rId2"/>
          <a:stretch/>
        </p:blipFill>
        <p:spPr>
          <a:xfrm>
            <a:off x="380880" y="20520"/>
            <a:ext cx="34354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4077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5080" y="422280"/>
            <a:ext cx="79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Linear Morph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rtain linear parameters of a basin are propor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 to stream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-175320" y="2251080"/>
            <a:ext cx="90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ength ratio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e length of streams of on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 length streams of the next highes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 be used to determine the average length of stream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unmeasured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5080" y="42228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erial Morph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-220680" y="1219320"/>
            <a:ext cx="782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inage density (Dd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tal length of streams in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n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cts the interaction between geology and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general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mds252"/>
          <p:cNvPicPr/>
          <p:nvPr/>
        </p:nvPicPr>
        <p:blipFill>
          <a:blip r:embed="rId1"/>
          <a:srcRect l="38017" t="5500" r="1655" b="39288"/>
          <a:stretch/>
        </p:blipFill>
        <p:spPr>
          <a:xfrm>
            <a:off x="2743200" y="31240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watershedswithlabels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41360" y="27000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Basin Morphology and Flood Hydr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mds24F"/>
          <p:cNvPicPr/>
          <p:nvPr/>
        </p:nvPicPr>
        <p:blipFill>
          <a:blip r:embed="rId1"/>
          <a:stretch/>
        </p:blipFill>
        <p:spPr>
          <a:xfrm>
            <a:off x="533520" y="685800"/>
            <a:ext cx="647676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mds252"/>
          <p:cNvPicPr/>
          <p:nvPr/>
        </p:nvPicPr>
        <p:blipFill>
          <a:blip r:embed="rId1"/>
          <a:stretch/>
        </p:blipFill>
        <p:spPr>
          <a:xfrm>
            <a:off x="0" y="23760"/>
            <a:ext cx="9220320" cy="6486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Basin Morphology and Flood Hydr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mds255"/>
          <p:cNvPicPr/>
          <p:nvPr/>
        </p:nvPicPr>
        <p:blipFill>
          <a:blip r:embed="rId1"/>
          <a:stretch/>
        </p:blipFill>
        <p:spPr>
          <a:xfrm>
            <a:off x="1219320" y="1447920"/>
            <a:ext cx="4673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9240" y="193680"/>
            <a:ext cx="47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ds258"/>
          <p:cNvPicPr/>
          <p:nvPr/>
        </p:nvPicPr>
        <p:blipFill>
          <a:blip r:embed="rId1"/>
          <a:stretch/>
        </p:blipFill>
        <p:spPr>
          <a:xfrm>
            <a:off x="2057400" y="1060560"/>
            <a:ext cx="4043520" cy="57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5734080" y="22320"/>
            <a:ext cx="3409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26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rock typ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27" descr="mds25B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26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Human 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28" descr="mds25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16000" y="19368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Human 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mds261"/>
          <p:cNvPicPr/>
          <p:nvPr/>
        </p:nvPicPr>
        <p:blipFill>
          <a:blip r:embed="rId1"/>
          <a:stretch/>
        </p:blipFill>
        <p:spPr>
          <a:xfrm>
            <a:off x="212760" y="1600200"/>
            <a:ext cx="63770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23960" y="304920"/>
            <a:ext cx="7810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7_06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6000" y="193680"/>
            <a:ext cx="479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Basin Evolution and Denu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actors affecting sedim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How do basins erode (denu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kinsey oblique b"/>
          <p:cNvPicPr/>
          <p:nvPr/>
        </p:nvPicPr>
        <p:blipFill>
          <a:blip r:embed="rId1"/>
          <a:stretch/>
        </p:blipFill>
        <p:spPr>
          <a:xfrm>
            <a:off x="152280" y="380880"/>
            <a:ext cx="8991720" cy="6051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743760" y="600120"/>
            <a:ext cx="53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diment Transport and Denu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insey oblique b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6051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198320" y="3581280"/>
            <a:ext cx="14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9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4"/>
          <p:cNvSpPr/>
          <p:nvPr/>
        </p:nvSpPr>
        <p:spPr>
          <a:xfrm>
            <a:off x="3632040" y="2717640"/>
            <a:ext cx="2629080" cy="284508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1656" h="1792">
                <a:moveTo>
                  <a:pt x="928" y="1648"/>
                </a:moveTo>
                <a:cubicBezTo>
                  <a:pt x="844" y="1564"/>
                  <a:pt x="760" y="1480"/>
                  <a:pt x="688" y="1408"/>
                </a:cubicBezTo>
                <a:cubicBezTo>
                  <a:pt x="616" y="1336"/>
                  <a:pt x="560" y="1280"/>
                  <a:pt x="496" y="1216"/>
                </a:cubicBezTo>
                <a:cubicBezTo>
                  <a:pt x="432" y="1152"/>
                  <a:pt x="352" y="1080"/>
                  <a:pt x="304" y="1024"/>
                </a:cubicBezTo>
                <a:cubicBezTo>
                  <a:pt x="256" y="968"/>
                  <a:pt x="232" y="944"/>
                  <a:pt x="208" y="880"/>
                </a:cubicBezTo>
                <a:cubicBezTo>
                  <a:pt x="184" y="816"/>
                  <a:pt x="184" y="712"/>
                  <a:pt x="160" y="640"/>
                </a:cubicBezTo>
                <a:cubicBezTo>
                  <a:pt x="136" y="568"/>
                  <a:pt x="88" y="496"/>
                  <a:pt x="64" y="448"/>
                </a:cubicBezTo>
                <a:cubicBezTo>
                  <a:pt x="40" y="400"/>
                  <a:pt x="24" y="384"/>
                  <a:pt x="16" y="352"/>
                </a:cubicBezTo>
                <a:cubicBezTo>
                  <a:pt x="8" y="320"/>
                  <a:pt x="0" y="280"/>
                  <a:pt x="16" y="256"/>
                </a:cubicBezTo>
                <a:cubicBezTo>
                  <a:pt x="32" y="232"/>
                  <a:pt x="88" y="224"/>
                  <a:pt x="112" y="208"/>
                </a:cubicBezTo>
                <a:cubicBezTo>
                  <a:pt x="136" y="192"/>
                  <a:pt x="120" y="176"/>
                  <a:pt x="160" y="160"/>
                </a:cubicBezTo>
                <a:cubicBezTo>
                  <a:pt x="200" y="144"/>
                  <a:pt x="304" y="128"/>
                  <a:pt x="352" y="112"/>
                </a:cubicBezTo>
                <a:cubicBezTo>
                  <a:pt x="400" y="96"/>
                  <a:pt x="392" y="80"/>
                  <a:pt x="448" y="64"/>
                </a:cubicBezTo>
                <a:cubicBezTo>
                  <a:pt x="504" y="48"/>
                  <a:pt x="624" y="24"/>
                  <a:pt x="688" y="16"/>
                </a:cubicBezTo>
                <a:cubicBezTo>
                  <a:pt x="752" y="8"/>
                  <a:pt x="784" y="16"/>
                  <a:pt x="832" y="16"/>
                </a:cubicBezTo>
                <a:cubicBezTo>
                  <a:pt x="880" y="16"/>
                  <a:pt x="928" y="0"/>
                  <a:pt x="976" y="16"/>
                </a:cubicBezTo>
                <a:cubicBezTo>
                  <a:pt x="1024" y="32"/>
                  <a:pt x="1080" y="80"/>
                  <a:pt x="1120" y="112"/>
                </a:cubicBezTo>
                <a:cubicBezTo>
                  <a:pt x="1160" y="144"/>
                  <a:pt x="1184" y="176"/>
                  <a:pt x="1216" y="208"/>
                </a:cubicBezTo>
                <a:cubicBezTo>
                  <a:pt x="1248" y="240"/>
                  <a:pt x="1288" y="272"/>
                  <a:pt x="1312" y="304"/>
                </a:cubicBezTo>
                <a:cubicBezTo>
                  <a:pt x="1336" y="336"/>
                  <a:pt x="1344" y="360"/>
                  <a:pt x="1360" y="400"/>
                </a:cubicBezTo>
                <a:cubicBezTo>
                  <a:pt x="1376" y="440"/>
                  <a:pt x="1392" y="496"/>
                  <a:pt x="1408" y="544"/>
                </a:cubicBezTo>
                <a:cubicBezTo>
                  <a:pt x="1424" y="592"/>
                  <a:pt x="1440" y="632"/>
                  <a:pt x="1456" y="688"/>
                </a:cubicBezTo>
                <a:cubicBezTo>
                  <a:pt x="1472" y="744"/>
                  <a:pt x="1488" y="824"/>
                  <a:pt x="1504" y="880"/>
                </a:cubicBezTo>
                <a:cubicBezTo>
                  <a:pt x="1520" y="936"/>
                  <a:pt x="1528" y="984"/>
                  <a:pt x="1552" y="1024"/>
                </a:cubicBezTo>
                <a:cubicBezTo>
                  <a:pt x="1576" y="1064"/>
                  <a:pt x="1640" y="1080"/>
                  <a:pt x="1648" y="1120"/>
                </a:cubicBezTo>
                <a:cubicBezTo>
                  <a:pt x="1656" y="1160"/>
                  <a:pt x="1608" y="1224"/>
                  <a:pt x="1600" y="1264"/>
                </a:cubicBezTo>
                <a:cubicBezTo>
                  <a:pt x="1592" y="1304"/>
                  <a:pt x="1624" y="1320"/>
                  <a:pt x="1600" y="1360"/>
                </a:cubicBezTo>
                <a:cubicBezTo>
                  <a:pt x="1576" y="1400"/>
                  <a:pt x="1480" y="1448"/>
                  <a:pt x="1456" y="1504"/>
                </a:cubicBezTo>
                <a:cubicBezTo>
                  <a:pt x="1432" y="1560"/>
                  <a:pt x="1456" y="1648"/>
                  <a:pt x="1456" y="1696"/>
                </a:cubicBezTo>
                <a:cubicBezTo>
                  <a:pt x="1456" y="1744"/>
                  <a:pt x="1456" y="1776"/>
                  <a:pt x="1456" y="1792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anyon incision"/>
          <p:cNvPicPr/>
          <p:nvPr/>
        </p:nvPicPr>
        <p:blipFill>
          <a:blip r:embed="rId1"/>
          <a:stretch/>
        </p:blipFill>
        <p:spPr>
          <a:xfrm>
            <a:off x="2209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3914640" cy="117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229360" y="609480"/>
            <a:ext cx="3914640" cy="292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3915000" cy="2925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068120" y="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554520" y="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0399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5924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649760" y="54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kinsey oblique b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6051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799240" y="57913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, 364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198680" y="3581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98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5"/>
          <p:cNvSpPr/>
          <p:nvPr/>
        </p:nvSpPr>
        <p:spPr>
          <a:xfrm>
            <a:off x="3632040" y="2717640"/>
            <a:ext cx="2629080" cy="284508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1656" h="1792">
                <a:moveTo>
                  <a:pt x="928" y="1648"/>
                </a:moveTo>
                <a:cubicBezTo>
                  <a:pt x="844" y="1564"/>
                  <a:pt x="760" y="1480"/>
                  <a:pt x="688" y="1408"/>
                </a:cubicBezTo>
                <a:cubicBezTo>
                  <a:pt x="616" y="1336"/>
                  <a:pt x="560" y="1280"/>
                  <a:pt x="496" y="1216"/>
                </a:cubicBezTo>
                <a:cubicBezTo>
                  <a:pt x="432" y="1152"/>
                  <a:pt x="352" y="1080"/>
                  <a:pt x="304" y="1024"/>
                </a:cubicBezTo>
                <a:cubicBezTo>
                  <a:pt x="256" y="968"/>
                  <a:pt x="232" y="944"/>
                  <a:pt x="208" y="880"/>
                </a:cubicBezTo>
                <a:cubicBezTo>
                  <a:pt x="184" y="816"/>
                  <a:pt x="184" y="712"/>
                  <a:pt x="160" y="640"/>
                </a:cubicBezTo>
                <a:cubicBezTo>
                  <a:pt x="136" y="568"/>
                  <a:pt x="88" y="496"/>
                  <a:pt x="64" y="448"/>
                </a:cubicBezTo>
                <a:cubicBezTo>
                  <a:pt x="40" y="400"/>
                  <a:pt x="24" y="384"/>
                  <a:pt x="16" y="352"/>
                </a:cubicBezTo>
                <a:cubicBezTo>
                  <a:pt x="8" y="320"/>
                  <a:pt x="0" y="280"/>
                  <a:pt x="16" y="256"/>
                </a:cubicBezTo>
                <a:cubicBezTo>
                  <a:pt x="32" y="232"/>
                  <a:pt x="88" y="224"/>
                  <a:pt x="112" y="208"/>
                </a:cubicBezTo>
                <a:cubicBezTo>
                  <a:pt x="136" y="192"/>
                  <a:pt x="120" y="176"/>
                  <a:pt x="160" y="160"/>
                </a:cubicBezTo>
                <a:cubicBezTo>
                  <a:pt x="200" y="144"/>
                  <a:pt x="304" y="128"/>
                  <a:pt x="352" y="112"/>
                </a:cubicBezTo>
                <a:cubicBezTo>
                  <a:pt x="400" y="96"/>
                  <a:pt x="392" y="80"/>
                  <a:pt x="448" y="64"/>
                </a:cubicBezTo>
                <a:cubicBezTo>
                  <a:pt x="504" y="48"/>
                  <a:pt x="624" y="24"/>
                  <a:pt x="688" y="16"/>
                </a:cubicBezTo>
                <a:cubicBezTo>
                  <a:pt x="752" y="8"/>
                  <a:pt x="784" y="16"/>
                  <a:pt x="832" y="16"/>
                </a:cubicBezTo>
                <a:cubicBezTo>
                  <a:pt x="880" y="16"/>
                  <a:pt x="928" y="0"/>
                  <a:pt x="976" y="16"/>
                </a:cubicBezTo>
                <a:cubicBezTo>
                  <a:pt x="1024" y="32"/>
                  <a:pt x="1080" y="80"/>
                  <a:pt x="1120" y="112"/>
                </a:cubicBezTo>
                <a:cubicBezTo>
                  <a:pt x="1160" y="144"/>
                  <a:pt x="1184" y="176"/>
                  <a:pt x="1216" y="208"/>
                </a:cubicBezTo>
                <a:cubicBezTo>
                  <a:pt x="1248" y="240"/>
                  <a:pt x="1288" y="272"/>
                  <a:pt x="1312" y="304"/>
                </a:cubicBezTo>
                <a:cubicBezTo>
                  <a:pt x="1336" y="336"/>
                  <a:pt x="1344" y="360"/>
                  <a:pt x="1360" y="400"/>
                </a:cubicBezTo>
                <a:cubicBezTo>
                  <a:pt x="1376" y="440"/>
                  <a:pt x="1392" y="496"/>
                  <a:pt x="1408" y="544"/>
                </a:cubicBezTo>
                <a:cubicBezTo>
                  <a:pt x="1424" y="592"/>
                  <a:pt x="1440" y="632"/>
                  <a:pt x="1456" y="688"/>
                </a:cubicBezTo>
                <a:cubicBezTo>
                  <a:pt x="1472" y="744"/>
                  <a:pt x="1488" y="824"/>
                  <a:pt x="1504" y="880"/>
                </a:cubicBezTo>
                <a:cubicBezTo>
                  <a:pt x="1520" y="936"/>
                  <a:pt x="1528" y="984"/>
                  <a:pt x="1552" y="1024"/>
                </a:cubicBezTo>
                <a:cubicBezTo>
                  <a:pt x="1576" y="1064"/>
                  <a:pt x="1640" y="1080"/>
                  <a:pt x="1648" y="1120"/>
                </a:cubicBezTo>
                <a:cubicBezTo>
                  <a:pt x="1656" y="1160"/>
                  <a:pt x="1608" y="1224"/>
                  <a:pt x="1600" y="1264"/>
                </a:cubicBezTo>
                <a:cubicBezTo>
                  <a:pt x="1592" y="1304"/>
                  <a:pt x="1624" y="1320"/>
                  <a:pt x="1600" y="1360"/>
                </a:cubicBezTo>
                <a:cubicBezTo>
                  <a:pt x="1576" y="1400"/>
                  <a:pt x="1480" y="1448"/>
                  <a:pt x="1456" y="1504"/>
                </a:cubicBezTo>
                <a:cubicBezTo>
                  <a:pt x="1432" y="1560"/>
                  <a:pt x="1456" y="1648"/>
                  <a:pt x="1456" y="1696"/>
                </a:cubicBezTo>
                <a:cubicBezTo>
                  <a:pt x="1456" y="1744"/>
                  <a:pt x="1456" y="1776"/>
                  <a:pt x="1456" y="1792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257800" y="5257800"/>
            <a:ext cx="11430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912680" y="2057400"/>
            <a:ext cx="45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13, 364 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41400" y="2514600"/>
            <a:ext cx="46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        0.398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398,0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233400" y="2251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3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323400" y="310212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240" y="33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Basin Denudation of Blue Rid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9800" y="1003320"/>
            <a:ext cx="6610320" cy="5518080"/>
            <a:chOff x="1009800" y="1003320"/>
            <a:chExt cx="6610320" cy="5518080"/>
          </a:xfrm>
        </p:grpSpPr>
        <p:grpSp>
          <p:nvGrpSpPr>
            <p:cNvPr id="156" name="Group 4"/>
            <p:cNvGrpSpPr/>
            <p:nvPr/>
          </p:nvGrpSpPr>
          <p:grpSpPr>
            <a:xfrm>
              <a:off x="1014480" y="1008000"/>
              <a:ext cx="6600960" cy="5508720"/>
              <a:chOff x="1014480" y="1008000"/>
              <a:chExt cx="6600960" cy="5508720"/>
            </a:xfrm>
          </p:grpSpPr>
          <p:grpSp>
            <p:nvGrpSpPr>
              <p:cNvPr id="157" name="Group 5"/>
              <p:cNvGrpSpPr/>
              <p:nvPr/>
            </p:nvGrpSpPr>
            <p:grpSpPr>
              <a:xfrm>
                <a:off x="1014480" y="1008000"/>
                <a:ext cx="1414440" cy="1308240"/>
                <a:chOff x="1014480" y="1008000"/>
                <a:chExt cx="1414440" cy="1308240"/>
              </a:xfrm>
            </p:grpSpPr>
            <p:sp>
              <p:nvSpPr>
                <p:cNvPr id="158" name="Rectangle 6"/>
                <p:cNvSpPr/>
                <p:nvPr/>
              </p:nvSpPr>
              <p:spPr>
                <a:xfrm>
                  <a:off x="1082880" y="1008000"/>
                  <a:ext cx="1277640" cy="13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7"/>
                <p:cNvSpPr/>
                <p:nvPr/>
              </p:nvSpPr>
              <p:spPr>
                <a:xfrm>
                  <a:off x="1014480" y="1008000"/>
                  <a:ext cx="1414440" cy="13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8"/>
              <p:cNvGrpSpPr/>
              <p:nvPr/>
            </p:nvGrpSpPr>
            <p:grpSpPr>
              <a:xfrm>
                <a:off x="2428920" y="1008000"/>
                <a:ext cx="1384200" cy="1308240"/>
                <a:chOff x="2428920" y="1008000"/>
                <a:chExt cx="1384200" cy="130824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2497320" y="1008000"/>
                  <a:ext cx="1247760" cy="13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"/>
                <p:cNvSpPr/>
                <p:nvPr/>
              </p:nvSpPr>
              <p:spPr>
                <a:xfrm>
                  <a:off x="2428920" y="1008000"/>
                  <a:ext cx="1384200" cy="13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1"/>
              <p:cNvGrpSpPr/>
              <p:nvPr/>
            </p:nvGrpSpPr>
            <p:grpSpPr>
              <a:xfrm>
                <a:off x="3813120" y="1008000"/>
                <a:ext cx="1089000" cy="1308240"/>
                <a:chOff x="3813120" y="1008000"/>
                <a:chExt cx="1089000" cy="1308240"/>
              </a:xfrm>
            </p:grpSpPr>
            <p:sp>
              <p:nvSpPr>
                <p:cNvPr id="164" name="Rectangle 12"/>
                <p:cNvSpPr/>
                <p:nvPr/>
              </p:nvSpPr>
              <p:spPr>
                <a:xfrm>
                  <a:off x="3881520" y="1008000"/>
                  <a:ext cx="952560" cy="13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in Area (k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3813120" y="1008000"/>
                  <a:ext cx="1089000" cy="13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4"/>
              <p:cNvGrpSpPr/>
              <p:nvPr/>
            </p:nvGrpSpPr>
            <p:grpSpPr>
              <a:xfrm>
                <a:off x="4902120" y="1008000"/>
                <a:ext cx="1484640" cy="1308240"/>
                <a:chOff x="4902120" y="1008000"/>
                <a:chExt cx="1484640" cy="1308240"/>
              </a:xfrm>
            </p:grpSpPr>
            <p:sp>
              <p:nvSpPr>
                <p:cNvPr id="167" name="Rectangle 15"/>
                <p:cNvSpPr/>
                <p:nvPr/>
              </p:nvSpPr>
              <p:spPr>
                <a:xfrm>
                  <a:off x="4970520" y="1008000"/>
                  <a:ext cx="1347840" cy="13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olume o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iment Erod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6"/>
                <p:cNvSpPr/>
                <p:nvPr/>
              </p:nvSpPr>
              <p:spPr>
                <a:xfrm>
                  <a:off x="4902120" y="1008000"/>
                  <a:ext cx="1484640" cy="13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7"/>
              <p:cNvGrpSpPr/>
              <p:nvPr/>
            </p:nvGrpSpPr>
            <p:grpSpPr>
              <a:xfrm>
                <a:off x="6386760" y="1008000"/>
                <a:ext cx="1228680" cy="1308240"/>
                <a:chOff x="6386760" y="1008000"/>
                <a:chExt cx="1228680" cy="1308240"/>
              </a:xfrm>
            </p:grpSpPr>
            <p:sp>
              <p:nvSpPr>
                <p:cNvPr id="170" name="Rectangle 18"/>
                <p:cNvSpPr/>
                <p:nvPr/>
              </p:nvSpPr>
              <p:spPr>
                <a:xfrm>
                  <a:off x="6454800" y="1008000"/>
                  <a:ext cx="1092240" cy="13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an Bas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nuda-tion (cm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9"/>
                <p:cNvSpPr/>
                <p:nvPr/>
              </p:nvSpPr>
              <p:spPr>
                <a:xfrm>
                  <a:off x="6386760" y="1008000"/>
                  <a:ext cx="1228680" cy="13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20"/>
              <p:cNvGrpSpPr/>
              <p:nvPr/>
            </p:nvGrpSpPr>
            <p:grpSpPr>
              <a:xfrm>
                <a:off x="1014480" y="2316240"/>
                <a:ext cx="1414440" cy="882360"/>
                <a:chOff x="1014480" y="2316240"/>
                <a:chExt cx="1414440" cy="882360"/>
              </a:xfrm>
            </p:grpSpPr>
            <p:sp>
              <p:nvSpPr>
                <p:cNvPr id="173" name="Rectangle 21"/>
                <p:cNvSpPr/>
                <p:nvPr/>
              </p:nvSpPr>
              <p:spPr>
                <a:xfrm>
                  <a:off x="1082880" y="2316240"/>
                  <a:ext cx="127764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rrica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mil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22"/>
                <p:cNvSpPr/>
                <p:nvPr/>
              </p:nvSpPr>
              <p:spPr>
                <a:xfrm>
                  <a:off x="1014480" y="2316240"/>
                  <a:ext cx="141444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23"/>
              <p:cNvGrpSpPr/>
              <p:nvPr/>
            </p:nvGrpSpPr>
            <p:grpSpPr>
              <a:xfrm>
                <a:off x="2428920" y="2316240"/>
                <a:ext cx="1384200" cy="882360"/>
                <a:chOff x="2428920" y="2316240"/>
                <a:chExt cx="1384200" cy="882360"/>
              </a:xfrm>
            </p:grpSpPr>
            <p:sp>
              <p:nvSpPr>
                <p:cNvPr id="176" name="Rectangle 24"/>
                <p:cNvSpPr/>
                <p:nvPr/>
              </p:nvSpPr>
              <p:spPr>
                <a:xfrm>
                  <a:off x="2497320" y="2316240"/>
                  <a:ext cx="124776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ill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v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25"/>
                <p:cNvSpPr/>
                <p:nvPr/>
              </p:nvSpPr>
              <p:spPr>
                <a:xfrm>
                  <a:off x="2428920" y="2316240"/>
                  <a:ext cx="138420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26"/>
              <p:cNvGrpSpPr/>
              <p:nvPr/>
            </p:nvGrpSpPr>
            <p:grpSpPr>
              <a:xfrm>
                <a:off x="3813120" y="2316240"/>
                <a:ext cx="1089000" cy="882360"/>
                <a:chOff x="3813120" y="2316240"/>
                <a:chExt cx="1089000" cy="882360"/>
              </a:xfrm>
            </p:grpSpPr>
            <p:sp>
              <p:nvSpPr>
                <p:cNvPr id="179" name="Rectangle 27"/>
                <p:cNvSpPr/>
                <p:nvPr/>
              </p:nvSpPr>
              <p:spPr>
                <a:xfrm>
                  <a:off x="3881520" y="2316240"/>
                  <a:ext cx="95256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0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28"/>
                <p:cNvSpPr/>
                <p:nvPr/>
              </p:nvSpPr>
              <p:spPr>
                <a:xfrm>
                  <a:off x="3813120" y="2316240"/>
                  <a:ext cx="108900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29"/>
              <p:cNvGrpSpPr/>
              <p:nvPr/>
            </p:nvGrpSpPr>
            <p:grpSpPr>
              <a:xfrm>
                <a:off x="4902120" y="2316240"/>
                <a:ext cx="1484640" cy="882360"/>
                <a:chOff x="4902120" y="2316240"/>
                <a:chExt cx="1484640" cy="882360"/>
              </a:xfrm>
            </p:grpSpPr>
            <p:sp>
              <p:nvSpPr>
                <p:cNvPr id="182" name="Rectangle 30"/>
                <p:cNvSpPr/>
                <p:nvPr/>
              </p:nvSpPr>
              <p:spPr>
                <a:xfrm>
                  <a:off x="4970520" y="2316240"/>
                  <a:ext cx="134784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3,48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1"/>
                <p:cNvSpPr/>
                <p:nvPr/>
              </p:nvSpPr>
              <p:spPr>
                <a:xfrm>
                  <a:off x="4902120" y="2316240"/>
                  <a:ext cx="148464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32"/>
              <p:cNvGrpSpPr/>
              <p:nvPr/>
            </p:nvGrpSpPr>
            <p:grpSpPr>
              <a:xfrm>
                <a:off x="6386760" y="2316240"/>
                <a:ext cx="1228680" cy="882360"/>
                <a:chOff x="6386760" y="2316240"/>
                <a:chExt cx="1228680" cy="882360"/>
              </a:xfrm>
            </p:grpSpPr>
            <p:sp>
              <p:nvSpPr>
                <p:cNvPr id="185" name="Rectangle 33"/>
                <p:cNvSpPr/>
                <p:nvPr/>
              </p:nvSpPr>
              <p:spPr>
                <a:xfrm>
                  <a:off x="6454800" y="2316240"/>
                  <a:ext cx="109224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34"/>
                <p:cNvSpPr/>
                <p:nvPr/>
              </p:nvSpPr>
              <p:spPr>
                <a:xfrm>
                  <a:off x="6386760" y="2316240"/>
                  <a:ext cx="122868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35"/>
              <p:cNvGrpSpPr/>
              <p:nvPr/>
            </p:nvGrpSpPr>
            <p:grpSpPr>
              <a:xfrm>
                <a:off x="1014480" y="3198600"/>
                <a:ext cx="1414440" cy="882720"/>
                <a:chOff x="1014480" y="3198600"/>
                <a:chExt cx="1414440" cy="882720"/>
              </a:xfrm>
            </p:grpSpPr>
            <p:sp>
              <p:nvSpPr>
                <p:cNvPr id="188" name="Rectangle 36"/>
                <p:cNvSpPr/>
                <p:nvPr/>
              </p:nvSpPr>
              <p:spPr>
                <a:xfrm>
                  <a:off x="1082880" y="3198600"/>
                  <a:ext cx="12776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rrica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mil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37"/>
                <p:cNvSpPr/>
                <p:nvPr/>
              </p:nvSpPr>
              <p:spPr>
                <a:xfrm>
                  <a:off x="1014480" y="3198600"/>
                  <a:ext cx="14144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38"/>
              <p:cNvGrpSpPr/>
              <p:nvPr/>
            </p:nvGrpSpPr>
            <p:grpSpPr>
              <a:xfrm>
                <a:off x="2428920" y="3198600"/>
                <a:ext cx="1384200" cy="882720"/>
                <a:chOff x="2428920" y="3198600"/>
                <a:chExt cx="1384200" cy="882720"/>
              </a:xfrm>
            </p:grpSpPr>
            <p:sp>
              <p:nvSpPr>
                <p:cNvPr id="191" name="Rectangle 39"/>
                <p:cNvSpPr/>
                <p:nvPr/>
              </p:nvSpPr>
              <p:spPr>
                <a:xfrm>
                  <a:off x="2497320" y="3198600"/>
                  <a:ext cx="12477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inseng Hol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40"/>
                <p:cNvSpPr/>
                <p:nvPr/>
              </p:nvSpPr>
              <p:spPr>
                <a:xfrm>
                  <a:off x="2428920" y="3198600"/>
                  <a:ext cx="13842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41"/>
              <p:cNvGrpSpPr/>
              <p:nvPr/>
            </p:nvGrpSpPr>
            <p:grpSpPr>
              <a:xfrm>
                <a:off x="3813120" y="3198600"/>
                <a:ext cx="1089000" cy="882720"/>
                <a:chOff x="3813120" y="3198600"/>
                <a:chExt cx="1089000" cy="882720"/>
              </a:xfrm>
            </p:grpSpPr>
            <p:sp>
              <p:nvSpPr>
                <p:cNvPr id="194" name="Rectangle 42"/>
                <p:cNvSpPr/>
                <p:nvPr/>
              </p:nvSpPr>
              <p:spPr>
                <a:xfrm>
                  <a:off x="3881520" y="3198600"/>
                  <a:ext cx="9525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7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43"/>
                <p:cNvSpPr/>
                <p:nvPr/>
              </p:nvSpPr>
              <p:spPr>
                <a:xfrm>
                  <a:off x="3813120" y="3198600"/>
                  <a:ext cx="10890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44"/>
              <p:cNvGrpSpPr/>
              <p:nvPr/>
            </p:nvGrpSpPr>
            <p:grpSpPr>
              <a:xfrm>
                <a:off x="4902120" y="3198600"/>
                <a:ext cx="1484640" cy="882720"/>
                <a:chOff x="4902120" y="3198600"/>
                <a:chExt cx="1484640" cy="882720"/>
              </a:xfrm>
            </p:grpSpPr>
            <p:sp>
              <p:nvSpPr>
                <p:cNvPr id="197" name="Rectangle 45"/>
                <p:cNvSpPr/>
                <p:nvPr/>
              </p:nvSpPr>
              <p:spPr>
                <a:xfrm>
                  <a:off x="4970520" y="3198600"/>
                  <a:ext cx="13478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,7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46"/>
                <p:cNvSpPr/>
                <p:nvPr/>
              </p:nvSpPr>
              <p:spPr>
                <a:xfrm>
                  <a:off x="4902120" y="3198600"/>
                  <a:ext cx="14846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47"/>
              <p:cNvGrpSpPr/>
              <p:nvPr/>
            </p:nvGrpSpPr>
            <p:grpSpPr>
              <a:xfrm>
                <a:off x="6386760" y="3198600"/>
                <a:ext cx="1228680" cy="882720"/>
                <a:chOff x="6386760" y="3198600"/>
                <a:chExt cx="1228680" cy="882720"/>
              </a:xfrm>
            </p:grpSpPr>
            <p:sp>
              <p:nvSpPr>
                <p:cNvPr id="200" name="Rectangle 48"/>
                <p:cNvSpPr/>
                <p:nvPr/>
              </p:nvSpPr>
              <p:spPr>
                <a:xfrm>
                  <a:off x="6454800" y="3198600"/>
                  <a:ext cx="10922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49"/>
                <p:cNvSpPr/>
                <p:nvPr/>
              </p:nvSpPr>
              <p:spPr>
                <a:xfrm>
                  <a:off x="6386760" y="3198600"/>
                  <a:ext cx="122868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50"/>
              <p:cNvGrpSpPr/>
              <p:nvPr/>
            </p:nvGrpSpPr>
            <p:grpSpPr>
              <a:xfrm>
                <a:off x="1014480" y="4081320"/>
                <a:ext cx="1414440" cy="882720"/>
                <a:chOff x="1014480" y="4081320"/>
                <a:chExt cx="1414440" cy="882720"/>
              </a:xfrm>
            </p:grpSpPr>
            <p:sp>
              <p:nvSpPr>
                <p:cNvPr id="203" name="Rectangle 51"/>
                <p:cNvSpPr/>
                <p:nvPr/>
              </p:nvSpPr>
              <p:spPr>
                <a:xfrm>
                  <a:off x="1082880" y="4081320"/>
                  <a:ext cx="12776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rrica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mil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52"/>
                <p:cNvSpPr/>
                <p:nvPr/>
              </p:nvSpPr>
              <p:spPr>
                <a:xfrm>
                  <a:off x="1014480" y="4081320"/>
                  <a:ext cx="14144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2428920" y="4081320"/>
                <a:ext cx="1384200" cy="882720"/>
                <a:chOff x="2428920" y="4081320"/>
                <a:chExt cx="1384200" cy="882720"/>
              </a:xfrm>
            </p:grpSpPr>
            <p:sp>
              <p:nvSpPr>
                <p:cNvPr id="206" name="Rectangle 54"/>
                <p:cNvSpPr/>
                <p:nvPr/>
              </p:nvSpPr>
              <p:spPr>
                <a:xfrm>
                  <a:off x="2497320" y="4081320"/>
                  <a:ext cx="12477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lly Wright Cov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55"/>
                <p:cNvSpPr/>
                <p:nvPr/>
              </p:nvSpPr>
              <p:spPr>
                <a:xfrm>
                  <a:off x="2428920" y="4081320"/>
                  <a:ext cx="13842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56"/>
              <p:cNvGrpSpPr/>
              <p:nvPr/>
            </p:nvGrpSpPr>
            <p:grpSpPr>
              <a:xfrm>
                <a:off x="3813120" y="4081320"/>
                <a:ext cx="1089000" cy="882720"/>
                <a:chOff x="3813120" y="4081320"/>
                <a:chExt cx="1089000" cy="882720"/>
              </a:xfrm>
            </p:grpSpPr>
            <p:sp>
              <p:nvSpPr>
                <p:cNvPr id="209" name="Rectangle 57"/>
                <p:cNvSpPr/>
                <p:nvPr/>
              </p:nvSpPr>
              <p:spPr>
                <a:xfrm>
                  <a:off x="3881520" y="4081320"/>
                  <a:ext cx="9525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58"/>
                <p:cNvSpPr/>
                <p:nvPr/>
              </p:nvSpPr>
              <p:spPr>
                <a:xfrm>
                  <a:off x="3813120" y="4081320"/>
                  <a:ext cx="10890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59"/>
              <p:cNvGrpSpPr/>
              <p:nvPr/>
            </p:nvGrpSpPr>
            <p:grpSpPr>
              <a:xfrm>
                <a:off x="4902120" y="4081320"/>
                <a:ext cx="1484640" cy="882720"/>
                <a:chOff x="4902120" y="4081320"/>
                <a:chExt cx="1484640" cy="882720"/>
              </a:xfrm>
            </p:grpSpPr>
            <p:sp>
              <p:nvSpPr>
                <p:cNvPr id="212" name="Rectangle 60"/>
                <p:cNvSpPr/>
                <p:nvPr/>
              </p:nvSpPr>
              <p:spPr>
                <a:xfrm>
                  <a:off x="4970520" y="4081320"/>
                  <a:ext cx="13478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,7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61"/>
                <p:cNvSpPr/>
                <p:nvPr/>
              </p:nvSpPr>
              <p:spPr>
                <a:xfrm>
                  <a:off x="4902120" y="4081320"/>
                  <a:ext cx="14846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62"/>
              <p:cNvGrpSpPr/>
              <p:nvPr/>
            </p:nvGrpSpPr>
            <p:grpSpPr>
              <a:xfrm>
                <a:off x="6386760" y="4081320"/>
                <a:ext cx="1228680" cy="882720"/>
                <a:chOff x="6386760" y="4081320"/>
                <a:chExt cx="1228680" cy="882720"/>
              </a:xfrm>
            </p:grpSpPr>
            <p:sp>
              <p:nvSpPr>
                <p:cNvPr id="215" name="Rectangle 63"/>
                <p:cNvSpPr/>
                <p:nvPr/>
              </p:nvSpPr>
              <p:spPr>
                <a:xfrm>
                  <a:off x="6454800" y="4081320"/>
                  <a:ext cx="10922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5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64"/>
                <p:cNvSpPr/>
                <p:nvPr/>
              </p:nvSpPr>
              <p:spPr>
                <a:xfrm>
                  <a:off x="6386760" y="4081320"/>
                  <a:ext cx="122868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65"/>
              <p:cNvGrpSpPr/>
              <p:nvPr/>
            </p:nvGrpSpPr>
            <p:grpSpPr>
              <a:xfrm>
                <a:off x="1014480" y="4964040"/>
                <a:ext cx="1414440" cy="882720"/>
                <a:chOff x="1014480" y="4964040"/>
                <a:chExt cx="1414440" cy="882720"/>
              </a:xfrm>
            </p:grpSpPr>
            <p:sp>
              <p:nvSpPr>
                <p:cNvPr id="218" name="Rectangle 66"/>
                <p:cNvSpPr/>
                <p:nvPr/>
              </p:nvSpPr>
              <p:spPr>
                <a:xfrm>
                  <a:off x="1082880" y="4964040"/>
                  <a:ext cx="12776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pidan Floo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67"/>
                <p:cNvSpPr/>
                <p:nvPr/>
              </p:nvSpPr>
              <p:spPr>
                <a:xfrm>
                  <a:off x="1014480" y="4964040"/>
                  <a:ext cx="14144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68"/>
              <p:cNvGrpSpPr/>
              <p:nvPr/>
            </p:nvGrpSpPr>
            <p:grpSpPr>
              <a:xfrm>
                <a:off x="2428920" y="4964040"/>
                <a:ext cx="1384200" cy="882720"/>
                <a:chOff x="2428920" y="4964040"/>
                <a:chExt cx="1384200" cy="882720"/>
              </a:xfrm>
            </p:grpSpPr>
            <p:sp>
              <p:nvSpPr>
                <p:cNvPr id="221" name="Rectangle 69"/>
                <p:cNvSpPr/>
                <p:nvPr/>
              </p:nvSpPr>
              <p:spPr>
                <a:xfrm>
                  <a:off x="2497320" y="4964040"/>
                  <a:ext cx="12477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enkins Hol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70"/>
                <p:cNvSpPr/>
                <p:nvPr/>
              </p:nvSpPr>
              <p:spPr>
                <a:xfrm>
                  <a:off x="2428920" y="4964040"/>
                  <a:ext cx="13842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71"/>
              <p:cNvGrpSpPr/>
              <p:nvPr/>
            </p:nvGrpSpPr>
            <p:grpSpPr>
              <a:xfrm>
                <a:off x="3813120" y="4964040"/>
                <a:ext cx="1089000" cy="882720"/>
                <a:chOff x="3813120" y="4964040"/>
                <a:chExt cx="1089000" cy="882720"/>
              </a:xfrm>
            </p:grpSpPr>
            <p:sp>
              <p:nvSpPr>
                <p:cNvPr id="224" name="Rectangle 72"/>
                <p:cNvSpPr/>
                <p:nvPr/>
              </p:nvSpPr>
              <p:spPr>
                <a:xfrm>
                  <a:off x="3881520" y="4964040"/>
                  <a:ext cx="9525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9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73"/>
                <p:cNvSpPr/>
                <p:nvPr/>
              </p:nvSpPr>
              <p:spPr>
                <a:xfrm>
                  <a:off x="3813120" y="4964040"/>
                  <a:ext cx="108900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74"/>
              <p:cNvGrpSpPr/>
              <p:nvPr/>
            </p:nvGrpSpPr>
            <p:grpSpPr>
              <a:xfrm>
                <a:off x="4902120" y="4964040"/>
                <a:ext cx="1484640" cy="882720"/>
                <a:chOff x="4902120" y="4964040"/>
                <a:chExt cx="1484640" cy="882720"/>
              </a:xfrm>
            </p:grpSpPr>
            <p:sp>
              <p:nvSpPr>
                <p:cNvPr id="227" name="Rectangle 75"/>
                <p:cNvSpPr/>
                <p:nvPr/>
              </p:nvSpPr>
              <p:spPr>
                <a:xfrm>
                  <a:off x="4970520" y="4964040"/>
                  <a:ext cx="13478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,36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76"/>
                <p:cNvSpPr/>
                <p:nvPr/>
              </p:nvSpPr>
              <p:spPr>
                <a:xfrm>
                  <a:off x="4902120" y="4964040"/>
                  <a:ext cx="14846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77"/>
              <p:cNvGrpSpPr/>
              <p:nvPr/>
            </p:nvGrpSpPr>
            <p:grpSpPr>
              <a:xfrm>
                <a:off x="6386760" y="4964040"/>
                <a:ext cx="1228680" cy="882720"/>
                <a:chOff x="6386760" y="4964040"/>
                <a:chExt cx="1228680" cy="882720"/>
              </a:xfrm>
            </p:grpSpPr>
            <p:sp>
              <p:nvSpPr>
                <p:cNvPr id="230" name="Rectangle 78"/>
                <p:cNvSpPr/>
                <p:nvPr/>
              </p:nvSpPr>
              <p:spPr>
                <a:xfrm>
                  <a:off x="6454800" y="4964040"/>
                  <a:ext cx="109224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.3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79"/>
                <p:cNvSpPr/>
                <p:nvPr/>
              </p:nvSpPr>
              <p:spPr>
                <a:xfrm>
                  <a:off x="6386760" y="4964040"/>
                  <a:ext cx="122868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Group 80"/>
              <p:cNvGrpSpPr/>
              <p:nvPr/>
            </p:nvGrpSpPr>
            <p:grpSpPr>
              <a:xfrm>
                <a:off x="1014480" y="5846760"/>
                <a:ext cx="1414440" cy="669960"/>
                <a:chOff x="1014480" y="5846760"/>
                <a:chExt cx="1414440" cy="669960"/>
              </a:xfrm>
            </p:grpSpPr>
            <p:sp>
              <p:nvSpPr>
                <p:cNvPr id="233" name="Rectangle 81"/>
                <p:cNvSpPr/>
                <p:nvPr/>
              </p:nvSpPr>
              <p:spPr>
                <a:xfrm>
                  <a:off x="1082880" y="5846760"/>
                  <a:ext cx="12776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pidan Floo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82"/>
                <p:cNvSpPr/>
                <p:nvPr/>
              </p:nvSpPr>
              <p:spPr>
                <a:xfrm>
                  <a:off x="1014480" y="5846760"/>
                  <a:ext cx="1414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83"/>
              <p:cNvGrpSpPr/>
              <p:nvPr/>
            </p:nvGrpSpPr>
            <p:grpSpPr>
              <a:xfrm>
                <a:off x="2428920" y="5846760"/>
                <a:ext cx="1384200" cy="669960"/>
                <a:chOff x="2428920" y="5846760"/>
                <a:chExt cx="1384200" cy="669960"/>
              </a:xfrm>
            </p:grpSpPr>
            <p:sp>
              <p:nvSpPr>
                <p:cNvPr id="236" name="Rectangle 84"/>
                <p:cNvSpPr/>
                <p:nvPr/>
              </p:nvSpPr>
              <p:spPr>
                <a:xfrm>
                  <a:off x="2497320" y="5846760"/>
                  <a:ext cx="12477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al Hol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85"/>
                <p:cNvSpPr/>
                <p:nvPr/>
              </p:nvSpPr>
              <p:spPr>
                <a:xfrm>
                  <a:off x="2428920" y="5846760"/>
                  <a:ext cx="13842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Group 86"/>
              <p:cNvGrpSpPr/>
              <p:nvPr/>
            </p:nvGrpSpPr>
            <p:grpSpPr>
              <a:xfrm>
                <a:off x="3813120" y="5846760"/>
                <a:ext cx="1089000" cy="669960"/>
                <a:chOff x="3813120" y="5846760"/>
                <a:chExt cx="1089000" cy="669960"/>
              </a:xfrm>
            </p:grpSpPr>
            <p:sp>
              <p:nvSpPr>
                <p:cNvPr id="239" name="Rectangle 87"/>
                <p:cNvSpPr/>
                <p:nvPr/>
              </p:nvSpPr>
              <p:spPr>
                <a:xfrm>
                  <a:off x="3881520" y="5846760"/>
                  <a:ext cx="9525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2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Rectangle 88"/>
                <p:cNvSpPr/>
                <p:nvPr/>
              </p:nvSpPr>
              <p:spPr>
                <a:xfrm>
                  <a:off x="3813120" y="5846760"/>
                  <a:ext cx="10890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Group 89"/>
              <p:cNvGrpSpPr/>
              <p:nvPr/>
            </p:nvGrpSpPr>
            <p:grpSpPr>
              <a:xfrm>
                <a:off x="4902120" y="5846760"/>
                <a:ext cx="1484640" cy="669960"/>
                <a:chOff x="4902120" y="5846760"/>
                <a:chExt cx="1484640" cy="669960"/>
              </a:xfrm>
            </p:grpSpPr>
            <p:sp>
              <p:nvSpPr>
                <p:cNvPr id="242" name="Rectangle 90"/>
                <p:cNvSpPr/>
                <p:nvPr/>
              </p:nvSpPr>
              <p:spPr>
                <a:xfrm>
                  <a:off x="4970520" y="5846760"/>
                  <a:ext cx="13478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49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Rectangle 91"/>
                <p:cNvSpPr/>
                <p:nvPr/>
              </p:nvSpPr>
              <p:spPr>
                <a:xfrm>
                  <a:off x="4902120" y="5846760"/>
                  <a:ext cx="14846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92"/>
              <p:cNvGrpSpPr/>
              <p:nvPr/>
            </p:nvGrpSpPr>
            <p:grpSpPr>
              <a:xfrm>
                <a:off x="6386760" y="5846760"/>
                <a:ext cx="1228680" cy="669960"/>
                <a:chOff x="6386760" y="5846760"/>
                <a:chExt cx="1228680" cy="669960"/>
              </a:xfrm>
            </p:grpSpPr>
            <p:sp>
              <p:nvSpPr>
                <p:cNvPr id="245" name="Rectangle 93"/>
                <p:cNvSpPr/>
                <p:nvPr/>
              </p:nvSpPr>
              <p:spPr>
                <a:xfrm>
                  <a:off x="6454800" y="5846760"/>
                  <a:ext cx="10922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103581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94"/>
                <p:cNvSpPr/>
                <p:nvPr/>
              </p:nvSpPr>
              <p:spPr>
                <a:xfrm>
                  <a:off x="6386760" y="5846760"/>
                  <a:ext cx="12286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Rectangle 95"/>
            <p:cNvSpPr/>
            <p:nvPr/>
          </p:nvSpPr>
          <p:spPr>
            <a:xfrm>
              <a:off x="1009800" y="1003320"/>
              <a:ext cx="6610320" cy="5518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62000" y="679320"/>
            <a:ext cx="8820000" cy="5489640"/>
          </a:xfrm>
          <a:prstGeom prst="rect">
            <a:avLst/>
          </a:prstGeom>
          <a:ln w="0">
            <a:noFill/>
          </a:ln>
        </p:spPr>
      </p:pic>
      <p:sp>
        <p:nvSpPr>
          <p:cNvPr id="249" name="Oval 3"/>
          <p:cNvSpPr/>
          <p:nvPr/>
        </p:nvSpPr>
        <p:spPr>
          <a:xfrm>
            <a:off x="4648320" y="38098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105520" y="3124080"/>
            <a:ext cx="38088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790560" y="1287360"/>
            <a:ext cx="7561440" cy="4272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2273760" y="5396040"/>
            <a:ext cx="99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rric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487840" y="5410080"/>
            <a:ext cx="85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pi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2590920" y="60199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5791320" y="6019920"/>
            <a:ext cx="38088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-331560" y="345960"/>
            <a:ext cx="91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general relationships realized concerning drainage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14200" y="193680"/>
            <a:ext cx="46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How do basins erode (denu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3" descr="mds264"/>
          <p:cNvPicPr/>
          <p:nvPr/>
        </p:nvPicPr>
        <p:blipFill>
          <a:blip r:embed="rId1"/>
          <a:stretch/>
        </p:blipFill>
        <p:spPr>
          <a:xfrm>
            <a:off x="152280" y="806400"/>
            <a:ext cx="8991720" cy="60516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581280" y="182880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84120" y="573084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14200" y="19368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ubsurface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3" descr="mds26D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35575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741840" y="22860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drog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fered in the Fall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mds270"/>
          <p:cNvPicPr/>
          <p:nvPr/>
        </p:nvPicPr>
        <p:blipFill>
          <a:blip r:embed="rId1"/>
          <a:stretch/>
        </p:blipFill>
        <p:spPr>
          <a:xfrm>
            <a:off x="1828800" y="228600"/>
            <a:ext cx="7101000" cy="5610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14200" y="19368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ubsurface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30040" y="1936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= velocity * chann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V *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07360" y="193680"/>
            <a:ext cx="685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V *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is highly variable; depends where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862_ex"/>
          <p:cNvPicPr/>
          <p:nvPr/>
        </p:nvPicPr>
        <p:blipFill>
          <a:blip r:embed="rId1"/>
          <a:stretch/>
        </p:blipFill>
        <p:spPr>
          <a:xfrm>
            <a:off x="5157720" y="2438280"/>
            <a:ext cx="3863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mds276"/>
          <p:cNvPicPr/>
          <p:nvPr/>
        </p:nvPicPr>
        <p:blipFill>
          <a:blip r:embed="rId1"/>
          <a:stretch/>
        </p:blipFill>
        <p:spPr>
          <a:xfrm>
            <a:off x="2743200" y="471600"/>
            <a:ext cx="6464160" cy="5914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207360" y="193680"/>
            <a:ext cx="68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locity is highly variable; depends where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622"/>
          <p:cNvPicPr/>
          <p:nvPr/>
        </p:nvPicPr>
        <p:blipFill>
          <a:blip r:embed="rId2"/>
          <a:stretch/>
        </p:blipFill>
        <p:spPr>
          <a:xfrm>
            <a:off x="-22320" y="4495680"/>
            <a:ext cx="2684520" cy="2081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http://pubs.usgs.gov/circ/circ1123/Fig10.gif"/>
          <p:cNvPicPr/>
          <p:nvPr/>
        </p:nvPicPr>
        <p:blipFill>
          <a:blip r:embed="rId3"/>
          <a:stretch/>
        </p:blipFill>
        <p:spPr>
          <a:xfrm>
            <a:off x="6040440" y="2133720"/>
            <a:ext cx="31035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mds279"/>
          <p:cNvPicPr/>
          <p:nvPr/>
        </p:nvPicPr>
        <p:blipFill>
          <a:blip r:embed="rId1"/>
          <a:stretch/>
        </p:blipFill>
        <p:spPr>
          <a:xfrm>
            <a:off x="2438280" y="1066680"/>
            <a:ext cx="6343920" cy="4046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11680" y="193680"/>
            <a:ext cx="35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porting 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vs annual 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vs median 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hart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656560" cy="6271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12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ting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hart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56560" cy="6271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2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Floo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05920" y="193680"/>
            <a:ext cx="727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does this mea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urve estimates the magnitude of a flood that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pected within a specified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31560" y="345960"/>
            <a:ext cx="91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general relationships realized concerning drainage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streams form their valleys in which they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46960" y="193680"/>
            <a:ext cx="857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does this mea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urve estimates the magnitude of a flood that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pected within a specified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probability that a flow of a given magnitude will occur du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y year is P = 1/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05920" y="193680"/>
            <a:ext cx="903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does this mea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urve estimates the magnitude of a flood that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pected within a specified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probability that a flow of a given magnitude will occur during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ear is P = 1/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: a 50 year flood has a  1/50, or a 2 percent chance of occur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any given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09160" y="193680"/>
            <a:ext cx="796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multiple y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 = 1- ( 1-1/T)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re q = probability of flood with RI of T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pecified number of year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47320" y="193680"/>
            <a:ext cx="796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multiple y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- ( 1-1/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92d05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re q = probability of flood with RI of T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pecified number of year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228600" y="2819520"/>
            <a:ext cx="7507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EX: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year flood has an </a:t>
            </a:r>
            <a:r>
              <a:rPr b="1" i="1" lang="en-US" sz="1800" spc="-1" strike="noStrike">
                <a:solidFill>
                  <a:srgbClr val="ffc000"/>
                </a:solidFill>
                <a:latin typeface="Arial"/>
              </a:rPr>
              <a:t>86%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chance of occurring over 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100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86640" y="5562720"/>
            <a:ext cx="79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UTION!!!  ANALYSIS GOOD FOR 1.5x length of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40840" y="193680"/>
            <a:ext cx="7174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chanics of Determining 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ood recurrence interval (R.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 Weibull Method -  calculates the R.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 taking the average time between 2 floods of equal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ater mag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 = (n + 1) /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re n is number of years on re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 is magnitude of given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12400" y="193680"/>
            <a:ext cx="33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aleoflood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mds27C"/>
          <p:cNvPicPr/>
          <p:nvPr/>
        </p:nvPicPr>
        <p:blipFill>
          <a:blip r:embed="rId1"/>
          <a:stretch/>
        </p:blipFill>
        <p:spPr>
          <a:xfrm>
            <a:off x="1143000" y="1219320"/>
            <a:ext cx="7715160" cy="55213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4190400" y="45720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ckwater deposit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mds27F"/>
          <p:cNvPicPr/>
          <p:nvPr/>
        </p:nvPicPr>
        <p:blipFill>
          <a:blip r:embed="rId1"/>
          <a:stretch/>
        </p:blipFill>
        <p:spPr>
          <a:xfrm>
            <a:off x="2971800" y="1231920"/>
            <a:ext cx="5943600" cy="56260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212400" y="193680"/>
            <a:ext cx="33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Basin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aleoflood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191480" y="457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ch one is right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04920" y="48006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arbon is your fri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-331560" y="345960"/>
            <a:ext cx="911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general relationships realized concerning drainage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treams form their valleys in which they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every river consists of a major stream that is fed b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mber of mutually adjusted branches that diminish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ze away from the main 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-322560" y="345960"/>
            <a:ext cx="673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lope Hydrology and Runoff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322560" y="345960"/>
            <a:ext cx="673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lope Hydrology and Runoff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asin Hydro. Cycle an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mds22E"/>
          <p:cNvPicPr/>
          <p:nvPr/>
        </p:nvPicPr>
        <p:blipFill>
          <a:blip r:embed="rId1"/>
          <a:stretch/>
        </p:blipFill>
        <p:spPr>
          <a:xfrm>
            <a:off x="115920" y="2971800"/>
            <a:ext cx="9028080" cy="376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047240" y="171756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= Output + change in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3:30:03Z</dcterms:created>
  <dc:creator>L. Scott Eaton</dc:creator>
  <dc:description/>
  <dc:language>en-US</dc:language>
  <cp:lastModifiedBy>Dr SUNEETH KUMAR</cp:lastModifiedBy>
  <dcterms:modified xsi:type="dcterms:W3CDTF">2024-04-27T07:03:35Z</dcterms:modified>
  <cp:revision>35</cp:revision>
  <dc:subject/>
  <dc:title>PowerPoint Presentation</dc:title>
</cp:coreProperties>
</file>