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AAA-3178-4109-9831-5A1E536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CFB-F009-4598-8E16-EEE8B439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11E-E224-4BE5-B3E4-2C97C3F5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52E-0FDF-46D4-BAB9-C978302C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580-B067-473B-872F-D1B50BC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5F-DA4B-4516-8DD9-0E3B993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27C-2AB3-4E2F-85B3-D91C681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4DD-B279-4079-ACAC-4E6E0BB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AB7-1FB6-474D-9D03-580187C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D60-4B6C-4443-A60E-ACAD159C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CEE-DBED-4A49-A99F-AA394643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D27-CD14-41A7-B350-24A28F8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198-388F-4F09-9F21-FFDF9408B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nic Was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4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amples of Recyc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companies have started recycling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harge f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give customers rebates on new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Phone 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st programs are Verizon’s Hopeline and Wireless Foundation’s Donate-a-Phon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9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ell Phone vs. PC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phone recycling much more successful than 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12 to 30 dollars to refurbish cell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rbished cell phone worth 40 to 50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% of cell phones refurbished [Bhuie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recyc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13 to 34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refurbished market [Bhuie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0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st Comparison for Collecting and Processing of Cell Phone and PC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295280"/>
          <a:ext cx="8229600" cy="5283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(US 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l Ph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por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mantl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i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osal of non-hazard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osal of hazard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41"/>
          <p:cNvSpPr/>
          <p:nvPr/>
        </p:nvSpPr>
        <p:spPr>
          <a:xfrm>
            <a:off x="5029200" y="6583320"/>
            <a:ext cx="33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huie, A. K., O. A. Ogunseitan, et al. (2004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1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orting Was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cost of labor for recy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ource t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are les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 of Guiyu: e-waste hub of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water has to be brought in [Johnst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rible working conditions [Grossma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show problems in workers from recycling [Grossma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1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uiy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0" name="Picture 4" descr="94840998_51aa286c39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3771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35120" y="571500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atalie Behring, www.nataliebehring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24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uiy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Picture 5" descr="94843201_b3e549ff29"/>
          <p:cNvPicPr/>
          <p:nvPr/>
        </p:nvPicPr>
        <p:blipFill>
          <a:blip r:embed="rId1"/>
          <a:stretch/>
        </p:blipFill>
        <p:spPr>
          <a:xfrm>
            <a:off x="1752480" y="18288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4487400" y="571500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atalie Behring, www.nataliebehring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3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uiy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34" name="Picture 4" descr="94843199_dfd4a0d6c8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4487400" y="541008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atalie Behring, www.nataliebehring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38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ina and E-was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lot of money to be had processing electronic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nese government trying to come up with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have been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s companies taking some responsibility in making sure waste handled properly [Johnston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4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NIC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ditions not only overs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Prison Industries (UNICOR) run electronic waste processing in pri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Jacks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are in unsafe environments [Jacks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ly affects legitimate recyclers by undercutting on price [Jacks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5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gitimate Recycl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take old equipment and pass on to schools and non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mine for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 to 50% circuit is made of metal [Grossm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 e-waste processors in Nort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to 500 in the United States [Grossm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illion dollar industry in 2003 [Grossman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d that by 2010 the industry will have $3.5 billion dollars in revenue [Grossman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5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electronic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t a prob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ing done about e-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vs. Lead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5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about Europ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directives have been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 Electrical and Electronic Equipment (WEE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f the Use of Certain Hazardous Substances (Ro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responsibility of end of life impact to producer (“producer responsibility”) [Tetra Tech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6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aste Electrical and Electronic Equipment (WEEE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rs responsible for collection, treatment, and disposal of e-waste [Tetra Tech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must be placed on products alerting customers not to throw away in normal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etra Tech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list of materials in products to recyc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etra Tech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6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estriction of the Use of Certain Hazardous Substances (Ro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is fi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, mercury, hexavalent chromium, cadmium, and some brominated flame retardants [Tetra Tech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no alternative you can use the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4 years review to see if you can stop using restricted substance [Grossman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7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o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 large impact on electronics [Muelle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is used in practically ever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rid of lead clearly makes end of life better [Muelle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some environmentalists are opposed to lead 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8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ad vs. Lead fre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gCu is common replacement to SnP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EPA finds that SnAgCu has greater environmental impact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 de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1000 cc of solder, lead free uses an energy equivalent of 162 gallons more of gasoline [United States EP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8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ad Fre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environmental impact comes from material and process related iss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United States EPA; Muelle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s used are more costly to extract [Muelle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ting point is higher which results in more energy use [Muelle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 based solders form whiskers [Muelle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9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y would anyone want to move to lead fre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ments cannot be made to impact of lead at end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es used to produce and use lead free solder could be im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ing lead free could force companies to come up with recycling friendly designs to reduce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s are becoming more and more of part of everyda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legislature is forcing electronic industry to pay attention to environmental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nsure if such laws are benef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0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electronic wast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with a PCB or slightly complicated electronic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with a pl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nic Was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4.6 million tons of electronic waste (e-waste) was produced in the US in the year 2000 [Bhui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urope, quantity of e-waste increases 3 to 5% a year [Bhui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times larger growth than other waste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6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y is e-waste becoming a big deal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s are becoming more and more a part of everyda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ded systems are every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waves, printers, key fobs, cars, appliances, cell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6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s becoming dispo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span is about 1.5 years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0 million are retired a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500 million are stockpiled [Bhuie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million retired a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0 million already stockpiled [Bhuie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that for every new cell phone or computer one becomes obsolete [Bhuie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y is e-waste becoming a big deal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7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is it a problem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ous materials found in electr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Arsenic, Beryllium, Cadmium, Nickel, Zinc, Antimony,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amage to brain, lungs, and other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specially toxic to developing children [Jacks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Hazardous Mate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ous materials not only found in electronic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s are found in the pla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minated flame-retardants (BFR) added to plastics to reduce chance of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 to sexual development and growth attributed to some BFRs [Jacks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8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being don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cling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rograms try to refurbish and sell old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 in place to mine precious metals from old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9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5:09:14Z</dcterms:created>
  <dc:creator>Jake</dc:creator>
  <dc:description/>
  <dc:language>en-US</dc:language>
  <cp:lastModifiedBy>Dr SUNEETH KUMAR</cp:lastModifiedBy>
  <dcterms:modified xsi:type="dcterms:W3CDTF">2022-06-25T05:01:00Z</dcterms:modified>
  <cp:revision>10</cp:revision>
  <dc:subject/>
  <dc:title>Electronic Waste</dc:title>
</cp:coreProperties>
</file>