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4.xml.rels" ContentType="application/vnd.openxmlformats-package.relationships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56214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104E-2744-4EA6-8DC9-77E8038C3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B958-38AD-4011-B2CA-903A7BABA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64AE-7C1D-43C2-93ED-1598254CE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0DD3-CFE0-48E6-A252-2AFD4CECF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684F-C345-472B-A2A0-407B236E5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4C5B-9E73-46C3-8F7A-250E44AD8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9901-E13B-40F5-93A2-26D3E3156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A89E-25F4-476A-A3B9-93FF2BCA8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6904-D593-4F2C-86B7-D7482F059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E25D-11A5-499C-BB84-86F796835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DAFF-5BE4-4186-ABD9-81F355EE0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2F5E-1192-4EA1-A8E7-5862FF264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94E6-C103-4AD8-8A56-679C91F6F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3032-90C9-44CA-938F-0A1324438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2240" y="914040"/>
            <a:ext cx="878832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2240" y="2923560"/>
            <a:ext cx="878832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2240" y="91404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840" y="91404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2240" y="292356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840" y="292356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2240" y="914040"/>
            <a:ext cx="282960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3680" y="914040"/>
            <a:ext cx="282960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5120" y="914040"/>
            <a:ext cx="282960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2240" y="2923560"/>
            <a:ext cx="282960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3680" y="2923560"/>
            <a:ext cx="282960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5120" y="2923560"/>
            <a:ext cx="282960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92240" y="914040"/>
            <a:ext cx="8788320" cy="38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2240" y="914040"/>
            <a:ext cx="8788320" cy="38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2240" y="914040"/>
            <a:ext cx="4288680" cy="38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95840" y="914040"/>
            <a:ext cx="4288680" cy="38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68200" y="181080"/>
            <a:ext cx="8685360" cy="24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2240" y="91404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5840" y="914040"/>
            <a:ext cx="4288680" cy="38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92240" y="292356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2240" y="914040"/>
            <a:ext cx="8788320" cy="38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2240" y="914040"/>
            <a:ext cx="4288680" cy="38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5840" y="91404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95840" y="292356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2240" y="91404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5840" y="91404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92240" y="2923560"/>
            <a:ext cx="878832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2240" y="914040"/>
            <a:ext cx="878832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92240" y="2923560"/>
            <a:ext cx="878832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2240" y="91404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5840" y="91404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92240" y="292356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95840" y="292356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92240" y="914040"/>
            <a:ext cx="282960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63680" y="914040"/>
            <a:ext cx="282960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5120" y="914040"/>
            <a:ext cx="282960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92240" y="2923560"/>
            <a:ext cx="282960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63680" y="2923560"/>
            <a:ext cx="282960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5120" y="2923560"/>
            <a:ext cx="282960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92240" y="914040"/>
            <a:ext cx="8788320" cy="38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2240" y="914040"/>
            <a:ext cx="8788320" cy="38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2240" y="914040"/>
            <a:ext cx="4288680" cy="38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95840" y="914040"/>
            <a:ext cx="4288680" cy="38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2240" y="914040"/>
            <a:ext cx="8788320" cy="38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68200" y="181080"/>
            <a:ext cx="8685360" cy="24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2240" y="91404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5840" y="914040"/>
            <a:ext cx="4288680" cy="38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92240" y="292356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2240" y="914040"/>
            <a:ext cx="4288680" cy="38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5840" y="91404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95840" y="292356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2240" y="91404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95840" y="91404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92240" y="2923560"/>
            <a:ext cx="878832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2240" y="914040"/>
            <a:ext cx="878832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92240" y="2923560"/>
            <a:ext cx="878832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2240" y="91404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95840" y="91404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92240" y="292356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95840" y="292356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2240" y="914040"/>
            <a:ext cx="282960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63680" y="914040"/>
            <a:ext cx="282960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35120" y="914040"/>
            <a:ext cx="282960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92240" y="2923560"/>
            <a:ext cx="282960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163680" y="2923560"/>
            <a:ext cx="282960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35120" y="2923560"/>
            <a:ext cx="282960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2240" y="914040"/>
            <a:ext cx="4288680" cy="38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840" y="914040"/>
            <a:ext cx="4288680" cy="38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8200" y="181080"/>
            <a:ext cx="8685360" cy="24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2240" y="91404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840" y="914040"/>
            <a:ext cx="4288680" cy="38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2240" y="292356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2240" y="914040"/>
            <a:ext cx="4288680" cy="38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840" y="91404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840" y="292356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2240" y="91404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840" y="914040"/>
            <a:ext cx="42886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2240" y="2923560"/>
            <a:ext cx="878832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5621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2240" y="914040"/>
            <a:ext cx="8788320" cy="38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400"/>
              </a:spcBef>
              <a:buClr>
                <a:srgbClr val="c5621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1400"/>
              </a:spcBef>
              <a:buClr>
                <a:srgbClr val="c5621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1400"/>
              </a:spcBef>
              <a:buClr>
                <a:srgbClr val="c5621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225720" y="6553080"/>
            <a:ext cx="186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Garamond"/>
              </a:rPr>
              <a:t>© 2010 Pearson Education Canada</a:t>
            </a:r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" name="Picture 7" descr="Pearson_WebBar_Top_Blue_RGB"/>
          <p:cNvPicPr/>
          <p:nvPr/>
        </p:nvPicPr>
        <p:blipFill>
          <a:blip r:embed="rId2"/>
          <a:stretch/>
        </p:blipFill>
        <p:spPr>
          <a:xfrm>
            <a:off x="0" y="644832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4" name="Text Box 4"/>
          <p:cNvSpPr/>
          <p:nvPr/>
        </p:nvSpPr>
        <p:spPr>
          <a:xfrm>
            <a:off x="6861600" y="6257880"/>
            <a:ext cx="221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8080"/>
                </a:solidFill>
                <a:latin typeface="Times New Roman"/>
                <a:ea typeface="MS PGothic"/>
              </a:rPr>
              <a:t>Copyright © 2013 Pearson Canada Inc.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25720" y="6553080"/>
            <a:ext cx="186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Garamond"/>
              </a:rPr>
              <a:t>© 2010 Pearson Education Canada</a:t>
            </a:r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366840" y="2057400"/>
            <a:ext cx="199548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31e12"/>
                </a:solidFill>
                <a:latin typeface="Arial"/>
              </a:rPr>
              <a:t>18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304920" y="3053880"/>
            <a:ext cx="5568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1e12"/>
                </a:solidFill>
                <a:latin typeface="Arial"/>
              </a:rPr>
              <a:t>Managing Our Wast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4" name="Picture 9" descr="Withgott_0321315332R.jpg"/>
          <p:cNvPicPr/>
          <p:nvPr/>
        </p:nvPicPr>
        <p:blipFill>
          <a:blip r:embed="rId2"/>
          <a:srcRect l="1389" t="8142" r="6947" b="81426"/>
          <a:stretch/>
        </p:blipFill>
        <p:spPr>
          <a:xfrm>
            <a:off x="0" y="0"/>
            <a:ext cx="8906040" cy="13003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304920" y="57913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PowerPoint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MS PGothic"/>
              </a:rPr>
              <a:t>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 Slides prepared by Stephen Turnbull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6" name="Picture 13" descr="Pearson_WebBar_Top_Blue_RGB"/>
          <p:cNvPicPr/>
          <p:nvPr/>
        </p:nvPicPr>
        <p:blipFill>
          <a:blip r:embed="rId3"/>
          <a:stretch/>
        </p:blipFill>
        <p:spPr>
          <a:xfrm>
            <a:off x="0" y="6448320"/>
            <a:ext cx="9144000" cy="419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WithgottCVRcapture"/>
          <p:cNvPicPr/>
          <p:nvPr/>
        </p:nvPicPr>
        <p:blipFill>
          <a:blip r:embed="rId4"/>
          <a:stretch/>
        </p:blipFill>
        <p:spPr>
          <a:xfrm>
            <a:off x="5162400" y="2124000"/>
            <a:ext cx="3981600" cy="32464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6861600" y="6257880"/>
            <a:ext cx="221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8080"/>
                </a:solidFill>
                <a:latin typeface="Times New Roman"/>
                <a:ea typeface="MS PGothic"/>
              </a:rPr>
              <a:t>Copyright © 2013 Pearson Canada Inc.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5621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92240" y="914040"/>
            <a:ext cx="8788320" cy="38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400"/>
              </a:spcBef>
              <a:buClr>
                <a:srgbClr val="c5621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1400"/>
              </a:spcBef>
              <a:buClr>
                <a:srgbClr val="c5621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1400"/>
              </a:spcBef>
              <a:buClr>
                <a:srgbClr val="c5621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281160" y="6594480"/>
            <a:ext cx="3639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Copyright © 2006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Rectangle 8"/>
          <p:cNvSpPr/>
          <p:nvPr/>
        </p:nvSpPr>
        <p:spPr>
          <a:xfrm flipV="1">
            <a:off x="0" y="0"/>
            <a:ext cx="9140760" cy="84240"/>
          </a:xfrm>
          <a:prstGeom prst="rect">
            <a:avLst/>
          </a:prstGeom>
          <a:gradFill rotWithShape="0">
            <a:gsLst>
              <a:gs pos="0">
                <a:srgbClr val="65cae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89" name="Picture 6" descr="covermaster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1620720" y="5888160"/>
            <a:ext cx="36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lides prepared by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y Withgott and Heidi Marcum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396720" y="6467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1054080" y="2327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733680" y="2158920"/>
            <a:ext cx="172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5aae5"/>
                </a:solidFill>
                <a:latin typeface="Times New Roman"/>
              </a:rPr>
              <a:t>Ch 22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781920" y="3038400"/>
            <a:ext cx="36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5aae5"/>
                </a:solidFill>
                <a:latin typeface="Times New Roman"/>
              </a:rPr>
              <a:t>Waste Managemen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838080" y="388620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d3b18"/>
                </a:solidFill>
                <a:latin typeface="Times New Roman"/>
              </a:rPr>
              <a:t>Part 2: Environmental Issues the Search for Solution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5621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2240" y="914040"/>
            <a:ext cx="8788320" cy="38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400"/>
              </a:spcBef>
              <a:buClr>
                <a:srgbClr val="c5621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1400"/>
              </a:spcBef>
              <a:buClr>
                <a:srgbClr val="c5621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1400"/>
              </a:spcBef>
              <a:buClr>
                <a:srgbClr val="c5621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recyclexchange.net/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560" y="2971440"/>
            <a:ext cx="868500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56214"/>
                </a:solidFill>
                <a:latin typeface="Arial"/>
              </a:rPr>
              <a:t>Approaches to Waste Managment</a:t>
            </a: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18-</a:t>
            </a:r>
            <a:fld id="{1AD1CA81-C44A-4595-9287-996AE894D753}" type="slidenum"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f1c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4" name="Picture 4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826920" cy="326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353880" cy="281160"/>
          </a:xfrm>
          <a:prstGeom prst="rect">
            <a:avLst/>
          </a:prstGeom>
          <a:ln w="0">
            <a:noFill/>
          </a:ln>
        </p:spPr>
      </p:pic>
      <p:pic>
        <p:nvPicPr>
          <p:cNvPr id="146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299880" cy="261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40176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420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56214"/>
                </a:solidFill>
                <a:latin typeface="Arial"/>
              </a:rPr>
              <a:t>Waste generation is rising in all nations</a:t>
            </a: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61976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1960, waste generation has increased in North America by 30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stic has accounted for greatest relative in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te generation in Canada has kept pace with population grow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many industrialized nations, per capita waste generation rates have leveled off or decreased in recent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 popularity of recyc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18-</a:t>
            </a:r>
            <a:fld id="{98F3DC3D-6F47-405A-BB5B-215C2FACFE82}" type="slidenum"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f1c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14" name="Picture 5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826920" cy="326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353880" cy="281160"/>
          </a:xfrm>
          <a:prstGeom prst="rect">
            <a:avLst/>
          </a:prstGeom>
          <a:ln w="0">
            <a:noFill/>
          </a:ln>
        </p:spPr>
      </p:pic>
      <p:pic>
        <p:nvPicPr>
          <p:cNvPr id="216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299880" cy="2617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40176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56214"/>
                </a:solidFill>
                <a:latin typeface="Arial"/>
              </a:rPr>
              <a:t>Open dumping in the past has given way to improved disposal methods </a:t>
            </a:r>
            <a:endParaRPr b="1" lang="en-US" sz="30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7924680" cy="426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ically people dumped their garbage wherever it suited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industrialized nations now bury waste in lined and covered landfills or burn it in incineration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ersion rates are increasing in Ca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ycling or composting increased from 21% to 27% in 20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18-</a:t>
            </a:r>
            <a:fld id="{064F1C39-0F5E-4B63-A090-35209F40C0A8}" type="slidenum"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TextBox 4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f1c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2" name="Picture 5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826920" cy="3268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353880" cy="281160"/>
          </a:xfrm>
          <a:prstGeom prst="rect">
            <a:avLst/>
          </a:prstGeom>
          <a:ln w="0">
            <a:noFill/>
          </a:ln>
        </p:spPr>
      </p:pic>
      <p:pic>
        <p:nvPicPr>
          <p:cNvPr id="224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299880" cy="261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40176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68200" y="180720"/>
            <a:ext cx="868536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56214"/>
                </a:solidFill>
                <a:latin typeface="Arial"/>
              </a:rPr>
              <a:t>Waste disposal is regulated by three levels of government</a:t>
            </a: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240" y="1390320"/>
            <a:ext cx="8458200" cy="497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23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nicip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523"/>
              </a:lnSpc>
              <a:spcBef>
                <a:spcPts val="1199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, diversion, and disposal of solid w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523"/>
              </a:lnSpc>
              <a:spcBef>
                <a:spcPts val="1199"/>
              </a:spcBef>
              <a:spcAft>
                <a:spcPts val="1199"/>
              </a:spcAft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p-off facilities for hazardous w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523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ncial and territor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523"/>
              </a:lnSpc>
              <a:spcBef>
                <a:spcPts val="1199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ment of waste materials within the juris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523"/>
              </a:lnSpc>
              <a:spcBef>
                <a:spcPts val="1199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censing of treatment fac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523"/>
              </a:lnSpc>
              <a:spcBef>
                <a:spcPts val="1199"/>
              </a:spcBef>
              <a:spcAft>
                <a:spcPts val="1199"/>
              </a:spcAft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islation and guidelines for landfill 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523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deral govern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523"/>
              </a:lnSpc>
              <a:spcBef>
                <a:spcPts val="1199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tional agreements about w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523"/>
              </a:lnSpc>
              <a:spcBef>
                <a:spcPts val="1199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boundary movements of waste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18-</a:t>
            </a:r>
            <a:fld id="{D7AD0435-120A-4340-A7C8-CC7D5B4651C5}" type="slidenum"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9" name="TextBox 4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f1c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30" name="Picture 5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826920" cy="3268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353880" cy="281160"/>
          </a:xfrm>
          <a:prstGeom prst="rect">
            <a:avLst/>
          </a:prstGeom>
          <a:ln w="0">
            <a:noFill/>
          </a:ln>
        </p:spPr>
      </p:pic>
      <p:pic>
        <p:nvPicPr>
          <p:cNvPr id="232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299880" cy="2617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40176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68200" y="180720"/>
            <a:ext cx="868536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56214"/>
                </a:solidFill>
                <a:latin typeface="Arial"/>
              </a:rPr>
              <a:t>Sanitary landfills are engineered to minimize leakage of contaminants</a:t>
            </a: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228600" y="1542960"/>
            <a:ext cx="8381880" cy="16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anitary landfil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= waste buried in the ground or piled in large, engineered mound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each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= liquid that results when trash dissolves in water as rainwater percolates downwa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18-</a:t>
            </a:r>
            <a:fld id="{EC7FFCB9-97D8-4E01-BD97-597B413FAC8B}" type="slidenum"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37" name="Picture 6" descr="fg18_05.gif"/>
          <p:cNvPicPr/>
          <p:nvPr/>
        </p:nvPicPr>
        <p:blipFill>
          <a:blip r:embed="rId1"/>
          <a:stretch/>
        </p:blipFill>
        <p:spPr>
          <a:xfrm>
            <a:off x="1600200" y="3124080"/>
            <a:ext cx="5029200" cy="3299040"/>
          </a:xfrm>
          <a:prstGeom prst="rect">
            <a:avLst/>
          </a:prstGeom>
          <a:ln w="0">
            <a:noFill/>
          </a:ln>
        </p:spPr>
      </p:pic>
      <p:sp>
        <p:nvSpPr>
          <p:cNvPr id="238" name="TextBox 5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f1c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39" name="Picture 6" descr="BANNER7672-ATME Logo Banner 1600 x 380.jpg"/>
          <p:cNvPicPr/>
          <p:nvPr/>
        </p:nvPicPr>
        <p:blipFill>
          <a:blip r:embed="rId2"/>
          <a:stretch/>
        </p:blipFill>
        <p:spPr>
          <a:xfrm>
            <a:off x="239760" y="42840"/>
            <a:ext cx="826920" cy="3268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"/>
          <p:cNvPicPr/>
          <p:nvPr/>
        </p:nvPicPr>
        <p:blipFill>
          <a:blip r:embed="rId3"/>
          <a:stretch/>
        </p:blipFill>
        <p:spPr>
          <a:xfrm>
            <a:off x="5283360" y="44280"/>
            <a:ext cx="353880" cy="281160"/>
          </a:xfrm>
          <a:prstGeom prst="rect">
            <a:avLst/>
          </a:prstGeom>
          <a:ln w="0">
            <a:noFill/>
          </a:ln>
        </p:spPr>
      </p:pic>
      <p:pic>
        <p:nvPicPr>
          <p:cNvPr id="241" name="Google Shape;55;p13" descr=""/>
          <p:cNvPicPr/>
          <p:nvPr/>
        </p:nvPicPr>
        <p:blipFill>
          <a:blip r:embed="rId4"/>
          <a:stretch/>
        </p:blipFill>
        <p:spPr>
          <a:xfrm>
            <a:off x="6438960" y="76320"/>
            <a:ext cx="299880" cy="261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"/>
          <p:cNvPicPr/>
          <p:nvPr/>
        </p:nvPicPr>
        <p:blipFill>
          <a:blip r:embed="rId5"/>
          <a:stretch/>
        </p:blipFill>
        <p:spPr>
          <a:xfrm>
            <a:off x="7696080" y="57240"/>
            <a:ext cx="40176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56214"/>
                </a:solidFill>
                <a:latin typeface="Arial"/>
              </a:rPr>
              <a:t>Landfills can be transformed after closure</a:t>
            </a: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2240" y="990360"/>
            <a:ext cx="8418240" cy="500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landfills lie abando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rs closed smaller landfills and made fewer larger landf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commission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shutting down an industrial site and getting it ready for cleanup and repurpo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wing cities converted closed landfills into public pa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e Park in Toro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sh Kills in New Y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18-</a:t>
            </a:r>
            <a:fld id="{111B60E8-DDB7-42AF-A172-6A08C10C7969}" type="slidenum"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TextBox 4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f1c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7" name="Picture 5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826920" cy="3268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353880" cy="281160"/>
          </a:xfrm>
          <a:prstGeom prst="rect">
            <a:avLst/>
          </a:prstGeom>
          <a:ln w="0">
            <a:noFill/>
          </a:ln>
        </p:spPr>
      </p:pic>
      <p:pic>
        <p:nvPicPr>
          <p:cNvPr id="249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299880" cy="261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40176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56214"/>
                </a:solidFill>
                <a:latin typeface="Arial"/>
              </a:rPr>
              <a:t>Landfills have drawbacks</a:t>
            </a: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19376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ts believe that leachate (toxic fluid) will eventually esc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iner will become punct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chate collection systems eventually aren’t mainta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hard to find places suitable for landf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ot-In-My-Backyard (NIMBY) syndr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garbage barge” c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87: Islip, New York’s landfills were full, and a barge traveled to empty the waste in North Carolina, which rejected the load, as did Louisiana and Mex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returned to Queens to incinerate the waste, after a 9,700 km jour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18-</a:t>
            </a:r>
            <a:fld id="{BC1C82D8-53D9-46F5-AA20-C1E8112C21CC}" type="slidenum"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TextBox 4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f1c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55" name="Picture 5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826920" cy="3268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353880" cy="281160"/>
          </a:xfrm>
          <a:prstGeom prst="rect">
            <a:avLst/>
          </a:prstGeom>
          <a:ln w="0">
            <a:noFill/>
          </a:ln>
        </p:spPr>
      </p:pic>
      <p:pic>
        <p:nvPicPr>
          <p:cNvPr id="257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299880" cy="261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40176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68200" y="180720"/>
            <a:ext cx="8685360" cy="5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56214"/>
                </a:solidFill>
                <a:latin typeface="Arial"/>
              </a:rPr>
              <a:t>Incinerating trash reduces pressure on landfills</a:t>
            </a:r>
            <a:endParaRPr b="1" lang="en-US" sz="30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33112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ciner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a controlled process in which mixed garbage is burned at very high temperatures; often used in Europe to also generate energy; proposed for Duke Poin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cineration in specially constructed faculties can be an improvement over open-air burning of tras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ut, the remaining ash must be disposed of in a hazardous waste landfil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azardous chemicals are created and released during burn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crubbe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chemically treat the gases produced in combustion to remove hazardous components and neutralize acidic ga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18-</a:t>
            </a:r>
            <a:fld id="{FB3D85DF-0103-457C-8D99-770CB5771654}" type="slidenum"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TextBox 4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f1c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63" name="Picture 5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826920" cy="3268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353880" cy="281160"/>
          </a:xfrm>
          <a:prstGeom prst="rect">
            <a:avLst/>
          </a:prstGeom>
          <a:ln w="0">
            <a:noFill/>
          </a:ln>
        </p:spPr>
      </p:pic>
      <p:pic>
        <p:nvPicPr>
          <p:cNvPr id="265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299880" cy="2617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40176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18-</a:t>
            </a:r>
            <a:fld id="{E3AC1980-0EAB-49DC-A9A2-24E1C77FB7E1}" type="slidenum"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68" name="Picture 4" descr="fg18_07.gif"/>
          <p:cNvPicPr/>
          <p:nvPr/>
        </p:nvPicPr>
        <p:blipFill>
          <a:blip r:embed="rId1"/>
          <a:stretch/>
        </p:blipFill>
        <p:spPr>
          <a:xfrm>
            <a:off x="914400" y="293760"/>
            <a:ext cx="7315200" cy="5959440"/>
          </a:xfrm>
          <a:prstGeom prst="rect">
            <a:avLst/>
          </a:prstGeom>
          <a:ln w="0">
            <a:noFill/>
          </a:ln>
        </p:spPr>
      </p:pic>
      <p:sp>
        <p:nvSpPr>
          <p:cNvPr id="269" name="TextBox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f1c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70" name="Picture 4" descr="BANNER7672-ATME Logo Banner 1600 x 380.jpg"/>
          <p:cNvPicPr/>
          <p:nvPr/>
        </p:nvPicPr>
        <p:blipFill>
          <a:blip r:embed="rId2"/>
          <a:stretch/>
        </p:blipFill>
        <p:spPr>
          <a:xfrm>
            <a:off x="239760" y="42840"/>
            <a:ext cx="826920" cy="3268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"/>
          <p:cNvPicPr/>
          <p:nvPr/>
        </p:nvPicPr>
        <p:blipFill>
          <a:blip r:embed="rId3"/>
          <a:stretch/>
        </p:blipFill>
        <p:spPr>
          <a:xfrm>
            <a:off x="5283360" y="44280"/>
            <a:ext cx="353880" cy="281160"/>
          </a:xfrm>
          <a:prstGeom prst="rect">
            <a:avLst/>
          </a:prstGeom>
          <a:ln w="0">
            <a:noFill/>
          </a:ln>
        </p:spPr>
      </p:pic>
      <p:pic>
        <p:nvPicPr>
          <p:cNvPr id="272" name="Google Shape;55;p13" descr=""/>
          <p:cNvPicPr/>
          <p:nvPr/>
        </p:nvPicPr>
        <p:blipFill>
          <a:blip r:embed="rId4"/>
          <a:stretch/>
        </p:blipFill>
        <p:spPr>
          <a:xfrm>
            <a:off x="6438960" y="76320"/>
            <a:ext cx="299880" cy="261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"/>
          <p:cNvPicPr/>
          <p:nvPr/>
        </p:nvPicPr>
        <p:blipFill>
          <a:blip r:embed="rId5"/>
          <a:stretch/>
        </p:blipFill>
        <p:spPr>
          <a:xfrm>
            <a:off x="7696080" y="57240"/>
            <a:ext cx="40176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96360" cy="5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56214"/>
                </a:solidFill>
                <a:latin typeface="Arial"/>
              </a:rPr>
              <a:t>Many incinerators burn waste to create energy</a:t>
            </a:r>
            <a:endParaRPr b="1" lang="en-US" sz="30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395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Waste-to-energy facilities (WTE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use the heat produced by waste combustion to create electric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aste generates about 35% of the energy generated by burning co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mpanies contract with communities to guarantee a minimum amount of garb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ong-term commitments interfere with the communities’ later efforts to reduce was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18-</a:t>
            </a:r>
            <a:fld id="{12E9786A-2A29-48B4-A82C-1E3DF5D40DA5}" type="slidenum"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TextBox 4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f1c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78" name="Picture 5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826920" cy="3268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6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353880" cy="281160"/>
          </a:xfrm>
          <a:prstGeom prst="rect">
            <a:avLst/>
          </a:prstGeom>
          <a:ln w="0">
            <a:noFill/>
          </a:ln>
        </p:spPr>
      </p:pic>
      <p:pic>
        <p:nvPicPr>
          <p:cNvPr id="280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299880" cy="2617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40176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56214"/>
                </a:solidFill>
                <a:latin typeface="Arial"/>
              </a:rPr>
              <a:t>Landfills can produce gas for energy</a:t>
            </a: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92240" y="914400"/>
            <a:ext cx="87883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teria can decompose waste in an oxygen-deficient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ndfill g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a mix of gases that consists of roughly half metha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collected, processed, and used like natural g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not used commercially, landfill gas is burned off in flares to reduce odors and greenhouse emi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than 40 operational projects in Canada collect landfill gas and convert it into energ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18-</a:t>
            </a:r>
            <a:fld id="{8705D30A-3ADD-4EE5-B085-CAFF7AC96093}" type="slidenum"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f1c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86" name="Picture 5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826920" cy="3268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353880" cy="281160"/>
          </a:xfrm>
          <a:prstGeom prst="rect">
            <a:avLst/>
          </a:prstGeom>
          <a:ln w="0">
            <a:noFill/>
          </a:ln>
        </p:spPr>
      </p:pic>
      <p:pic>
        <p:nvPicPr>
          <p:cNvPr id="288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299880" cy="2617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8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40176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56214"/>
                </a:solidFill>
                <a:latin typeface="Arial"/>
              </a:rPr>
              <a:t>Approaches to waste management</a:t>
            </a: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92240" y="914040"/>
            <a:ext cx="878832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01"/>
              </a:spcBef>
              <a:spcAft>
                <a:spcPts val="1199"/>
              </a:spcAft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unicipal solid waste 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non-liquid waste that comes from homes, institutions, and small business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01"/>
              </a:spcBef>
              <a:spcAft>
                <a:spcPts val="1199"/>
              </a:spcAft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dustrial solid waste 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aste from production of consumer goods, mining, agriculture, and petroleum extraction and refining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01"/>
              </a:spcBef>
              <a:spcAft>
                <a:spcPts val="1199"/>
              </a:spcAft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Hazardous waste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olid or liquid waste that is toxic, chemically reactive, flammable, or corrosiv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01"/>
              </a:spcBef>
              <a:spcAft>
                <a:spcPts val="1199"/>
              </a:spcAft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astewater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ater used in a household, business, or industry, as well as polluted runoff from our streets and storm drain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18-</a:t>
            </a:r>
            <a:fld id="{5C590096-7EA1-4A41-8EAE-6C0C5A62EC52}" type="slidenum"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TextBox 4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f1c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2" name="Picture 5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826920" cy="3268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353880" cy="281160"/>
          </a:xfrm>
          <a:prstGeom prst="rect">
            <a:avLst/>
          </a:prstGeom>
          <a:ln w="0">
            <a:noFill/>
          </a:ln>
        </p:spPr>
      </p:pic>
      <p:pic>
        <p:nvPicPr>
          <p:cNvPr id="154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299880" cy="261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40176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180720"/>
            <a:ext cx="914400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56214"/>
                </a:solidFill>
                <a:latin typeface="Arial"/>
              </a:rPr>
              <a:t>Garbage justice?</a:t>
            </a: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you know where your trash goe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is your landfill or incinerator located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the people who live closest to the facility wealthy, poor, or middle clas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race or ethnicity are they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you know whether the people of this neighbourhood protested against the introduction of the landfill or incinerator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Group 15"/>
          <p:cNvGrpSpPr/>
          <p:nvPr/>
        </p:nvGrpSpPr>
        <p:grpSpPr>
          <a:xfrm>
            <a:off x="-76320" y="68400"/>
            <a:ext cx="1447920" cy="556920"/>
            <a:chOff x="-76320" y="68400"/>
            <a:chExt cx="1447920" cy="556920"/>
          </a:xfrm>
        </p:grpSpPr>
        <p:sp>
          <p:nvSpPr>
            <p:cNvPr id="293" name="Rectangle 7"/>
            <p:cNvSpPr/>
            <p:nvPr/>
          </p:nvSpPr>
          <p:spPr>
            <a:xfrm>
              <a:off x="55440" y="76320"/>
              <a:ext cx="1194120" cy="549000"/>
            </a:xfrm>
            <a:prstGeom prst="rect">
              <a:avLst/>
            </a:prstGeom>
            <a:gradFill rotWithShape="0">
              <a:gsLst>
                <a:gs pos="0">
                  <a:srgbClr val="faceae"/>
                </a:gs>
                <a:gs pos="100000">
                  <a:srgbClr val="ffe2bf"/>
                </a:gs>
              </a:gsLst>
              <a:lin ang="16200000"/>
            </a:gradFill>
            <a:ln w="9360">
              <a:solidFill>
                <a:srgbClr val="edca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4" name="TextBox 6"/>
            <p:cNvSpPr/>
            <p:nvPr/>
          </p:nvSpPr>
          <p:spPr>
            <a:xfrm>
              <a:off x="-76320" y="68400"/>
              <a:ext cx="144792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ts val="177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31e12"/>
                  </a:solidFill>
                  <a:latin typeface="Times New Roman"/>
                  <a:ea typeface="MS PGothic"/>
                </a:rPr>
                <a:t>weighing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 </a:t>
              </a:r>
              <a:br>
                <a:rPr sz="900"/>
              </a:br>
              <a:r>
                <a:rPr b="0" lang="en-US" sz="1100" spc="-1" strike="noStrike">
                  <a:solidFill>
                    <a:srgbClr val="404040"/>
                  </a:solidFill>
                  <a:latin typeface="Times New Roman"/>
                  <a:ea typeface="MS PGothic"/>
                </a:rPr>
                <a:t>the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 </a:t>
              </a:r>
              <a:r>
                <a:rPr b="0" lang="en-US" sz="1800" spc="-1" strike="noStrike">
                  <a:solidFill>
                    <a:srgbClr val="631e12"/>
                  </a:solidFill>
                  <a:latin typeface="Times New Roman"/>
                  <a:ea typeface="MS PGothic"/>
                </a:rPr>
                <a:t>issues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5" name="Straight Connector 9"/>
            <p:cNvSpPr/>
            <p:nvPr/>
          </p:nvSpPr>
          <p:spPr>
            <a:xfrm>
              <a:off x="55440" y="76320"/>
              <a:ext cx="119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9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18-</a:t>
            </a:r>
            <a:fld id="{286A8C6B-FE24-457B-978D-85833AE2D640}" type="slidenum"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TextBox 8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f1c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98" name="Picture 10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826920" cy="3268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1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353880" cy="281160"/>
          </a:xfrm>
          <a:prstGeom prst="rect">
            <a:avLst/>
          </a:prstGeom>
          <a:ln w="0">
            <a:noFill/>
          </a:ln>
        </p:spPr>
      </p:pic>
      <p:pic>
        <p:nvPicPr>
          <p:cNvPr id="300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299880" cy="2617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3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40176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56214"/>
                </a:solidFill>
                <a:latin typeface="Arial"/>
              </a:rPr>
              <a:t>Reducing waste is a better option</a:t>
            </a: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305920" cy="678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urce reduc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preventing waste generation in the first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400"/>
              </a:spcBef>
              <a:buClr>
                <a:srgbClr val="c56214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s costs of disposal and recyc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400"/>
              </a:spcBef>
              <a:buClr>
                <a:srgbClr val="c56214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s conserve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400"/>
              </a:spcBef>
              <a:buClr>
                <a:srgbClr val="c56214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s pol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400"/>
              </a:spcBef>
              <a:buClr>
                <a:srgbClr val="c56214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save consumers and businesses mo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 packa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 or per-bag charges for plastic grocery ba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 the longevity of go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18-</a:t>
            </a:r>
            <a:fld id="{12EEF214-CBF9-4424-98AD-BD2506E0CCE2}" type="slidenum"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TextBox 4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f1c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06" name="Picture 5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826920" cy="3268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353880" cy="281160"/>
          </a:xfrm>
          <a:prstGeom prst="rect">
            <a:avLst/>
          </a:prstGeom>
          <a:ln w="0">
            <a:noFill/>
          </a:ln>
        </p:spPr>
      </p:pic>
      <p:pic>
        <p:nvPicPr>
          <p:cNvPr id="308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299880" cy="2617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40176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68200" y="180720"/>
            <a:ext cx="86853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56214"/>
                </a:solidFill>
                <a:latin typeface="Arial"/>
              </a:rPr>
              <a:t>Reuse is one main strategy for waste reduction</a:t>
            </a: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788680" cy="52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ate used items to cha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use boxes, paper, plastic, wrapping paper, and so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y groceries in bu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ine bags at stores and bring cloth bags sho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ing your own cup to coffee sh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y rechargeable batt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goods with less packa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st kitchen and yard was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or borrow items instead of buying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18-</a:t>
            </a:r>
            <a:fld id="{E699231A-0A37-45DC-926B-686F69BAAC06}" type="slidenum"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TextBox 4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f1c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14" name="Picture 5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826920" cy="3268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6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353880" cy="281160"/>
          </a:xfrm>
          <a:prstGeom prst="rect">
            <a:avLst/>
          </a:prstGeom>
          <a:ln w="0">
            <a:noFill/>
          </a:ln>
        </p:spPr>
      </p:pic>
      <p:pic>
        <p:nvPicPr>
          <p:cNvPr id="316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299880" cy="2617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8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40176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-63360" y="761760"/>
            <a:ext cx="914400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56214"/>
                </a:solidFill>
                <a:latin typeface="Arial"/>
              </a:rPr>
              <a:t>Reducing Packaging: Is It A Wrap?</a:t>
            </a: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ducing packaging cuts down on the waste stream, but how, when, and how much should we reduce? Packaging can serve very worthwhile purposes, such as safeguarding consumer health and safety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n you think of three products for which you would not want to see less packaging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n you name three products for which packaging could easily be reduced without ill effects to the consumer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ould you be any more or less likely to buy these products if they had less packaging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Group 15"/>
          <p:cNvGrpSpPr/>
          <p:nvPr/>
        </p:nvGrpSpPr>
        <p:grpSpPr>
          <a:xfrm>
            <a:off x="-76320" y="68400"/>
            <a:ext cx="1447920" cy="556920"/>
            <a:chOff x="-76320" y="68400"/>
            <a:chExt cx="1447920" cy="556920"/>
          </a:xfrm>
        </p:grpSpPr>
        <p:sp>
          <p:nvSpPr>
            <p:cNvPr id="321" name="Rectangle 7"/>
            <p:cNvSpPr/>
            <p:nvPr/>
          </p:nvSpPr>
          <p:spPr>
            <a:xfrm>
              <a:off x="55440" y="76320"/>
              <a:ext cx="1194120" cy="549000"/>
            </a:xfrm>
            <a:prstGeom prst="rect">
              <a:avLst/>
            </a:prstGeom>
            <a:gradFill rotWithShape="0">
              <a:gsLst>
                <a:gs pos="0">
                  <a:srgbClr val="faceae"/>
                </a:gs>
                <a:gs pos="100000">
                  <a:srgbClr val="ffe2bf"/>
                </a:gs>
              </a:gsLst>
              <a:lin ang="16200000"/>
            </a:gradFill>
            <a:ln w="9360">
              <a:solidFill>
                <a:srgbClr val="edca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2" name="TextBox 6"/>
            <p:cNvSpPr/>
            <p:nvPr/>
          </p:nvSpPr>
          <p:spPr>
            <a:xfrm>
              <a:off x="-76320" y="68400"/>
              <a:ext cx="144792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ts val="177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31e12"/>
                  </a:solidFill>
                  <a:latin typeface="Times New Roman"/>
                  <a:ea typeface="MS PGothic"/>
                </a:rPr>
                <a:t>weighing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 </a:t>
              </a:r>
              <a:br>
                <a:rPr sz="900"/>
              </a:br>
              <a:r>
                <a:rPr b="0" lang="en-US" sz="1100" spc="-1" strike="noStrike">
                  <a:solidFill>
                    <a:srgbClr val="404040"/>
                  </a:solidFill>
                  <a:latin typeface="Times New Roman"/>
                  <a:ea typeface="MS PGothic"/>
                </a:rPr>
                <a:t>the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 </a:t>
              </a:r>
              <a:r>
                <a:rPr b="0" lang="en-US" sz="1800" spc="-1" strike="noStrike">
                  <a:solidFill>
                    <a:srgbClr val="631e12"/>
                  </a:solidFill>
                  <a:latin typeface="Times New Roman"/>
                  <a:ea typeface="MS PGothic"/>
                </a:rPr>
                <a:t>issues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3" name="Straight Connector 9"/>
            <p:cNvSpPr/>
            <p:nvPr/>
          </p:nvSpPr>
          <p:spPr>
            <a:xfrm>
              <a:off x="55440" y="76320"/>
              <a:ext cx="119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18-</a:t>
            </a:r>
            <a:fld id="{4AD91646-90D3-4436-8ED2-98490640C28B}" type="slidenum"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5" name="TextBox 8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f1c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26" name="Picture 10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826920" cy="3268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1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353880" cy="281160"/>
          </a:xfrm>
          <a:prstGeom prst="rect">
            <a:avLst/>
          </a:prstGeom>
          <a:ln w="0">
            <a:noFill/>
          </a:ln>
        </p:spPr>
      </p:pic>
      <p:pic>
        <p:nvPicPr>
          <p:cNvPr id="328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299880" cy="2617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3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40176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4864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56214"/>
                </a:solidFill>
                <a:latin typeface="Arial"/>
              </a:rPr>
              <a:t>Composting recovers organic waste</a:t>
            </a: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spcAft>
                <a:spcPts val="1199"/>
              </a:spcAft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os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the conversion of organic waste into mulch or humus through natural biological processes of decomposit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spcAft>
                <a:spcPts val="1199"/>
              </a:spcAft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now more than 350 centralized composting programs in Ca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spcAft>
                <a:spcPts val="1199"/>
              </a:spcAft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8% of the Canadian solid waste stream is made up of materials that can easily be compo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spcAft>
                <a:spcPts val="1199"/>
              </a:spcAft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7% of Canadian households do some form of compo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18-</a:t>
            </a:r>
            <a:fld id="{6383A403-E925-4B2B-BCAC-8AC3820BD6BD}" type="slidenum"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3" name="TextBox 4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f1c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34" name="Picture 5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826920" cy="3268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6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353880" cy="281160"/>
          </a:xfrm>
          <a:prstGeom prst="rect">
            <a:avLst/>
          </a:prstGeom>
          <a:ln w="0">
            <a:noFill/>
          </a:ln>
        </p:spPr>
      </p:pic>
      <p:pic>
        <p:nvPicPr>
          <p:cNvPr id="336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299880" cy="2617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40176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56214"/>
                </a:solidFill>
                <a:latin typeface="Arial"/>
              </a:rPr>
              <a:t>Recycling consists of three steps</a:t>
            </a: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18-</a:t>
            </a:r>
            <a:fld id="{2A7BE7DF-FA9D-44D3-89FA-E397E04F4D36}" type="slidenum"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40" name="Picture 5" descr="fg18_08.gif"/>
          <p:cNvPicPr/>
          <p:nvPr/>
        </p:nvPicPr>
        <p:blipFill>
          <a:blip r:embed="rId1"/>
          <a:stretch/>
        </p:blipFill>
        <p:spPr>
          <a:xfrm>
            <a:off x="1905120" y="890640"/>
            <a:ext cx="5057640" cy="5370480"/>
          </a:xfrm>
          <a:prstGeom prst="rect">
            <a:avLst/>
          </a:prstGeom>
          <a:ln w="0">
            <a:noFill/>
          </a:ln>
        </p:spPr>
      </p:pic>
      <p:sp>
        <p:nvSpPr>
          <p:cNvPr id="341" name="TextBox 4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f1c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42" name="Picture 5" descr="BANNER7672-ATME Logo Banner 1600 x 380.jpg"/>
          <p:cNvPicPr/>
          <p:nvPr/>
        </p:nvPicPr>
        <p:blipFill>
          <a:blip r:embed="rId2"/>
          <a:stretch/>
        </p:blipFill>
        <p:spPr>
          <a:xfrm>
            <a:off x="239760" y="42840"/>
            <a:ext cx="826920" cy="3268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6" descr=""/>
          <p:cNvPicPr/>
          <p:nvPr/>
        </p:nvPicPr>
        <p:blipFill>
          <a:blip r:embed="rId3"/>
          <a:stretch/>
        </p:blipFill>
        <p:spPr>
          <a:xfrm>
            <a:off x="5283360" y="44280"/>
            <a:ext cx="353880" cy="281160"/>
          </a:xfrm>
          <a:prstGeom prst="rect">
            <a:avLst/>
          </a:prstGeom>
          <a:ln w="0">
            <a:noFill/>
          </a:ln>
        </p:spPr>
      </p:pic>
      <p:pic>
        <p:nvPicPr>
          <p:cNvPr id="344" name="Google Shape;55;p13" descr=""/>
          <p:cNvPicPr/>
          <p:nvPr/>
        </p:nvPicPr>
        <p:blipFill>
          <a:blip r:embed="rId4"/>
          <a:stretch/>
        </p:blipFill>
        <p:spPr>
          <a:xfrm>
            <a:off x="6438960" y="76320"/>
            <a:ext cx="299880" cy="2617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8" descr=""/>
          <p:cNvPicPr/>
          <p:nvPr/>
        </p:nvPicPr>
        <p:blipFill>
          <a:blip r:embed="rId5"/>
          <a:stretch/>
        </p:blipFill>
        <p:spPr>
          <a:xfrm>
            <a:off x="7696080" y="57240"/>
            <a:ext cx="40176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10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56214"/>
                </a:solidFill>
                <a:latin typeface="Arial"/>
              </a:rPr>
              <a:t>Recycling has grown rapidly and can expand further</a:t>
            </a: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51920" y="1599840"/>
            <a:ext cx="8788680" cy="40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5% of Canadian households have access to recycling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ycling rates vary from one product or material type to another and from one location to anto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 has been driven b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onomic fo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re to reduce wa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18-</a:t>
            </a:r>
            <a:fld id="{D70DD0FD-1B11-4AE1-824C-DD07D565A6D3}" type="slidenum"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9" name="TextBox 4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f1c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50" name="Picture 5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826920" cy="3268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6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353880" cy="281160"/>
          </a:xfrm>
          <a:prstGeom prst="rect">
            <a:avLst/>
          </a:prstGeom>
          <a:ln w="0">
            <a:noFill/>
          </a:ln>
        </p:spPr>
      </p:pic>
      <p:pic>
        <p:nvPicPr>
          <p:cNvPr id="352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299880" cy="2617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8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40176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180720"/>
            <a:ext cx="914400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56214"/>
                </a:solidFill>
                <a:latin typeface="Arial"/>
              </a:rPr>
              <a:t>Costs of Recycling and </a:t>
            </a:r>
            <a:br>
              <a:rPr sz="3200"/>
            </a:br>
            <a:r>
              <a:rPr b="1" lang="en-US" sz="3200" spc="-1" strike="noStrike">
                <a:solidFill>
                  <a:srgbClr val="c56214"/>
                </a:solidFill>
                <a:latin typeface="Arial"/>
              </a:rPr>
              <a:t>Not Recycling</a:t>
            </a: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3520" indent="-263520">
              <a:lnSpc>
                <a:spcPct val="100000"/>
              </a:lnSpc>
              <a:spcAft>
                <a:spcPts val="2999"/>
              </a:spcAft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recycling programs be subsidized by governments even if they are run at an economic los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Aft>
                <a:spcPts val="2999"/>
              </a:spcAft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types of external costs—costs not reflected in market prices— do you think would be involved in not recycling, say, aluminum ca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Aft>
                <a:spcPts val="2999"/>
              </a:spcAft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you feel these costs justify sponsoring recycling programs even when they are not financially self-supporting? Why or why not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Group 15"/>
          <p:cNvGrpSpPr/>
          <p:nvPr/>
        </p:nvGrpSpPr>
        <p:grpSpPr>
          <a:xfrm>
            <a:off x="-76320" y="68400"/>
            <a:ext cx="1447920" cy="556920"/>
            <a:chOff x="-76320" y="68400"/>
            <a:chExt cx="1447920" cy="556920"/>
          </a:xfrm>
        </p:grpSpPr>
        <p:sp>
          <p:nvSpPr>
            <p:cNvPr id="357" name="Rectangle 7"/>
            <p:cNvSpPr/>
            <p:nvPr/>
          </p:nvSpPr>
          <p:spPr>
            <a:xfrm>
              <a:off x="55440" y="76320"/>
              <a:ext cx="1194120" cy="549000"/>
            </a:xfrm>
            <a:prstGeom prst="rect">
              <a:avLst/>
            </a:prstGeom>
            <a:gradFill rotWithShape="0">
              <a:gsLst>
                <a:gs pos="0">
                  <a:srgbClr val="faceae"/>
                </a:gs>
                <a:gs pos="100000">
                  <a:srgbClr val="ffe2bf"/>
                </a:gs>
              </a:gsLst>
              <a:lin ang="16200000"/>
            </a:gradFill>
            <a:ln w="9360">
              <a:solidFill>
                <a:srgbClr val="edca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58" name="TextBox 6"/>
            <p:cNvSpPr/>
            <p:nvPr/>
          </p:nvSpPr>
          <p:spPr>
            <a:xfrm>
              <a:off x="-76320" y="68400"/>
              <a:ext cx="144792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ts val="177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31e12"/>
                  </a:solidFill>
                  <a:latin typeface="Times New Roman"/>
                  <a:ea typeface="MS PGothic"/>
                </a:rPr>
                <a:t>weighing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 </a:t>
              </a:r>
              <a:br>
                <a:rPr sz="900"/>
              </a:br>
              <a:r>
                <a:rPr b="0" lang="en-US" sz="1100" spc="-1" strike="noStrike">
                  <a:solidFill>
                    <a:srgbClr val="404040"/>
                  </a:solidFill>
                  <a:latin typeface="Times New Roman"/>
                  <a:ea typeface="MS PGothic"/>
                </a:rPr>
                <a:t>the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 </a:t>
              </a:r>
              <a:r>
                <a:rPr b="0" lang="en-US" sz="1800" spc="-1" strike="noStrike">
                  <a:solidFill>
                    <a:srgbClr val="631e12"/>
                  </a:solidFill>
                  <a:latin typeface="Times New Roman"/>
                  <a:ea typeface="MS PGothic"/>
                </a:rPr>
                <a:t>issues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59" name="Straight Connector 9"/>
            <p:cNvSpPr/>
            <p:nvPr/>
          </p:nvSpPr>
          <p:spPr>
            <a:xfrm>
              <a:off x="55440" y="76320"/>
              <a:ext cx="119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18-</a:t>
            </a:r>
            <a:fld id="{5CC7EC97-1E5F-4EEA-83AA-3529AAE6F44C}" type="slidenum"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1" name="TextBox 8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f1c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62" name="Picture 10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826920" cy="3268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1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353880" cy="281160"/>
          </a:xfrm>
          <a:prstGeom prst="rect">
            <a:avLst/>
          </a:prstGeom>
          <a:ln w="0">
            <a:noFill/>
          </a:ln>
        </p:spPr>
      </p:pic>
      <p:pic>
        <p:nvPicPr>
          <p:cNvPr id="364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299880" cy="2617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3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40176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56214"/>
                </a:solidFill>
                <a:latin typeface="Arial"/>
              </a:rPr>
              <a:t>Financial incentives can help address waste</a:t>
            </a: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15328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y-as-you-thr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uses financial incentives to influence consumer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ss waste a house generates the less it is charged for trash colle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turn-for-refu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consumers pay a deposit, and receive a refund for returning used bott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atly reduced beverage container li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provinces and territories in Canada except for Nunav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18-</a:t>
            </a:r>
            <a:fld id="{26DF377F-969F-45E4-909E-C6589BD75911}" type="slidenum"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9" name="TextBox 4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f1c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70" name="Picture 5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826920" cy="3268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353880" cy="281160"/>
          </a:xfrm>
          <a:prstGeom prst="rect">
            <a:avLst/>
          </a:prstGeom>
          <a:ln w="0">
            <a:noFill/>
          </a:ln>
        </p:spPr>
      </p:pic>
      <p:pic>
        <p:nvPicPr>
          <p:cNvPr id="372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299880" cy="2617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40176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600" y="140040"/>
            <a:ext cx="868680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56214"/>
                </a:solidFill>
                <a:latin typeface="Arial"/>
              </a:rPr>
              <a:t>Edmonton showcases reduction and recycling</a:t>
            </a:r>
            <a:endParaRPr b="1" lang="en-US" sz="30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monton, Alberta, has created one of the world’s most advanced waste managemen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te: 35% sanitary landfilled, 15% is recycled, 50% is compo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8% of the people participate in curbside recyc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18-</a:t>
            </a:r>
            <a:fld id="{E2CF0830-5117-4315-9835-9794E66D20CE}" type="slidenum"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77" name="Picture 7" descr="fg18_09.gif"/>
          <p:cNvPicPr/>
          <p:nvPr/>
        </p:nvPicPr>
        <p:blipFill>
          <a:blip r:embed="rId1"/>
          <a:stretch/>
        </p:blipFill>
        <p:spPr>
          <a:xfrm>
            <a:off x="5300640" y="838080"/>
            <a:ext cx="3022560" cy="5334120"/>
          </a:xfrm>
          <a:prstGeom prst="rect">
            <a:avLst/>
          </a:prstGeom>
          <a:ln w="0">
            <a:noFill/>
          </a:ln>
        </p:spPr>
      </p:pic>
      <p:sp>
        <p:nvSpPr>
          <p:cNvPr id="378" name="TextBox 5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f1c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79" name="Picture 6" descr="BANNER7672-ATME Logo Banner 1600 x 380.jpg"/>
          <p:cNvPicPr/>
          <p:nvPr/>
        </p:nvPicPr>
        <p:blipFill>
          <a:blip r:embed="rId2"/>
          <a:stretch/>
        </p:blipFill>
        <p:spPr>
          <a:xfrm>
            <a:off x="239760" y="42840"/>
            <a:ext cx="826920" cy="32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"/>
          <p:cNvPicPr/>
          <p:nvPr/>
        </p:nvPicPr>
        <p:blipFill>
          <a:blip r:embed="rId3"/>
          <a:stretch/>
        </p:blipFill>
        <p:spPr>
          <a:xfrm>
            <a:off x="5283360" y="44280"/>
            <a:ext cx="353880" cy="281160"/>
          </a:xfrm>
          <a:prstGeom prst="rect">
            <a:avLst/>
          </a:prstGeom>
          <a:ln w="0">
            <a:noFill/>
          </a:ln>
        </p:spPr>
      </p:pic>
      <p:pic>
        <p:nvPicPr>
          <p:cNvPr id="381" name="Google Shape;55;p13" descr=""/>
          <p:cNvPicPr/>
          <p:nvPr/>
        </p:nvPicPr>
        <p:blipFill>
          <a:blip r:embed="rId4"/>
          <a:stretch/>
        </p:blipFill>
        <p:spPr>
          <a:xfrm>
            <a:off x="6438960" y="76320"/>
            <a:ext cx="299880" cy="2617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9" descr=""/>
          <p:cNvPicPr/>
          <p:nvPr/>
        </p:nvPicPr>
        <p:blipFill>
          <a:blip r:embed="rId5"/>
          <a:stretch/>
        </p:blipFill>
        <p:spPr>
          <a:xfrm>
            <a:off x="7696080" y="57240"/>
            <a:ext cx="40176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56214"/>
                </a:solidFill>
                <a:latin typeface="Arial"/>
              </a:rPr>
              <a:t>We have several aims in managing waste</a:t>
            </a: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7543800" cy="32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main components of waste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inimizing the amount of waste we generate 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ource reduc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covering waste materials and finding ways to recycle the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isposing of waste safely and effectivel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18-</a:t>
            </a:r>
            <a:fld id="{51D4145F-06B1-485B-A4BC-57D84DDF3A8A}" type="slidenum"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TextBox 4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f1c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0" name="Picture 5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826920" cy="326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353880" cy="281160"/>
          </a:xfrm>
          <a:prstGeom prst="rect">
            <a:avLst/>
          </a:prstGeom>
          <a:ln w="0">
            <a:noFill/>
          </a:ln>
        </p:spPr>
      </p:pic>
      <p:pic>
        <p:nvPicPr>
          <p:cNvPr id="162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299880" cy="261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40176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28600" y="304776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56214"/>
                </a:solidFill>
                <a:latin typeface="Arial"/>
              </a:rPr>
              <a:t>Industrial Solid Waste</a:t>
            </a: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18-</a:t>
            </a:r>
            <a:fld id="{2733E7E4-3C4A-49C4-8D0D-E411DE8053B9}" type="slidenum"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TextBox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f1c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86" name="Picture 4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826920" cy="3268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5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353880" cy="281160"/>
          </a:xfrm>
          <a:prstGeom prst="rect">
            <a:avLst/>
          </a:prstGeom>
          <a:ln w="0">
            <a:noFill/>
          </a:ln>
        </p:spPr>
      </p:pic>
      <p:pic>
        <p:nvPicPr>
          <p:cNvPr id="388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299880" cy="2617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40176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520" y="220320"/>
            <a:ext cx="8572680" cy="62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56214"/>
                </a:solidFill>
                <a:latin typeface="Arial"/>
              </a:rPr>
              <a:t>Industrial solid waste</a:t>
            </a: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80520" y="1371600"/>
            <a:ext cx="3581640" cy="20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dustrial was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waste from factories, mining, agriculture, petroleum extraction, et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18-</a:t>
            </a:r>
            <a:fld id="{6C6B1417-3B13-4E21-A7C6-7F84FF15B8AA}" type="slidenum"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93" name="Picture 6" descr="fg18_10.gif"/>
          <p:cNvPicPr/>
          <p:nvPr/>
        </p:nvPicPr>
        <p:blipFill>
          <a:blip r:embed="rId1"/>
          <a:stretch/>
        </p:blipFill>
        <p:spPr>
          <a:xfrm>
            <a:off x="5105520" y="685800"/>
            <a:ext cx="2855880" cy="5467320"/>
          </a:xfrm>
          <a:prstGeom prst="rect">
            <a:avLst/>
          </a:prstGeom>
          <a:ln w="0">
            <a:noFill/>
          </a:ln>
        </p:spPr>
      </p:pic>
      <p:sp>
        <p:nvSpPr>
          <p:cNvPr id="394" name="TextBox 5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f1c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95" name="Picture 6" descr="BANNER7672-ATME Logo Banner 1600 x 380.jpg"/>
          <p:cNvPicPr/>
          <p:nvPr/>
        </p:nvPicPr>
        <p:blipFill>
          <a:blip r:embed="rId2"/>
          <a:stretch/>
        </p:blipFill>
        <p:spPr>
          <a:xfrm>
            <a:off x="239760" y="42840"/>
            <a:ext cx="826920" cy="3268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"/>
          <p:cNvPicPr/>
          <p:nvPr/>
        </p:nvPicPr>
        <p:blipFill>
          <a:blip r:embed="rId3"/>
          <a:stretch/>
        </p:blipFill>
        <p:spPr>
          <a:xfrm>
            <a:off x="5283360" y="44280"/>
            <a:ext cx="353880" cy="281160"/>
          </a:xfrm>
          <a:prstGeom prst="rect">
            <a:avLst/>
          </a:prstGeom>
          <a:ln w="0">
            <a:noFill/>
          </a:ln>
        </p:spPr>
      </p:pic>
      <p:pic>
        <p:nvPicPr>
          <p:cNvPr id="397" name="Google Shape;55;p13" descr=""/>
          <p:cNvPicPr/>
          <p:nvPr/>
        </p:nvPicPr>
        <p:blipFill>
          <a:blip r:embed="rId4"/>
          <a:stretch/>
        </p:blipFill>
        <p:spPr>
          <a:xfrm>
            <a:off x="6438960" y="76320"/>
            <a:ext cx="299880" cy="2617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9" descr=""/>
          <p:cNvPicPr/>
          <p:nvPr/>
        </p:nvPicPr>
        <p:blipFill>
          <a:blip r:embed="rId5"/>
          <a:stretch/>
        </p:blipFill>
        <p:spPr>
          <a:xfrm>
            <a:off x="7696080" y="57240"/>
            <a:ext cx="40176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68200" y="134640"/>
            <a:ext cx="8685360" cy="116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56214"/>
                </a:solidFill>
                <a:latin typeface="Arial"/>
              </a:rPr>
              <a:t>Regulation and economics each influence industrial waste generation</a:t>
            </a: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23520"/>
            <a:ext cx="8229600" cy="413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st methods and strategies of waste disposal, reduction, and recycling are similar to municipal solid was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amount of waste generated by a manufacturing process is one measure of its efficienc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hysical efficiency is not equal to economic efficienc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t can be cheaper to generate waste than to avoid was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rising cost of waste disposal encourage industries to decrease waste and increase physical efficienc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18-</a:t>
            </a:r>
            <a:fld id="{92EF4DA5-6F53-4251-B3E4-513F05A786C6}" type="slidenum"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2" name="TextBox 4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f1c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03" name="Picture 5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826920" cy="3268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353880" cy="281160"/>
          </a:xfrm>
          <a:prstGeom prst="rect">
            <a:avLst/>
          </a:prstGeom>
          <a:ln w="0">
            <a:noFill/>
          </a:ln>
        </p:spPr>
      </p:pic>
      <p:pic>
        <p:nvPicPr>
          <p:cNvPr id="405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299880" cy="261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8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40176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68200" y="134640"/>
            <a:ext cx="8685360" cy="116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56214"/>
                </a:solidFill>
                <a:latin typeface="Arial"/>
              </a:rPr>
              <a:t>Industrial ecology seeks to make industry more sustainable</a:t>
            </a: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04560" y="1371240"/>
            <a:ext cx="8458200" cy="38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01"/>
              </a:spcBef>
              <a:spcAft>
                <a:spcPts val="1800"/>
              </a:spcAft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dustrial ecolog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redesigning industrial systems to reduce resource inputs and to minimize physical inefficiency while maximizing economic efficienc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01"/>
              </a:spcBef>
              <a:spcAft>
                <a:spcPts val="1800"/>
              </a:spcAft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ife cycle analysis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mine the life cycle of a product and look for ways to make the process more ecologically effici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ollution prevention (P2) strategi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aimed at reducing waste and preventing pollution at its sour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18-</a:t>
            </a:r>
            <a:fld id="{C4873728-C98E-4EBB-9E32-AAFE6C5E35F8}" type="slidenum"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0" name="TextBox 4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f1c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11" name="Picture 5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826920" cy="3268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353880" cy="281160"/>
          </a:xfrm>
          <a:prstGeom prst="rect">
            <a:avLst/>
          </a:prstGeom>
          <a:ln w="0">
            <a:noFill/>
          </a:ln>
        </p:spPr>
      </p:pic>
      <p:pic>
        <p:nvPicPr>
          <p:cNvPr id="413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299880" cy="261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40176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68200" y="135000"/>
            <a:ext cx="868536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56214"/>
                </a:solidFill>
                <a:latin typeface="Arial"/>
              </a:rPr>
              <a:t>Businesses are adopting industrial ecology</a:t>
            </a: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04920" y="837720"/>
            <a:ext cx="8331120" cy="58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dified tile design and production methods to reduce was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ut waste generation by 80%, fossil fuel use by 45%, and water use by 70%, while raising profits by 49%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nadian Ti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uto parts return initiati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Xero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ake-back/lease progra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NVIRx progra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turn unused medications to pharmacies for dispos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18-</a:t>
            </a:r>
            <a:fld id="{B2502E66-D797-41EE-8102-23C78B686958}" type="slidenum"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8" name="TextBox 4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f1c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19" name="Picture 5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826920" cy="3268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6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353880" cy="281160"/>
          </a:xfrm>
          <a:prstGeom prst="rect">
            <a:avLst/>
          </a:prstGeom>
          <a:ln w="0">
            <a:noFill/>
          </a:ln>
        </p:spPr>
      </p:pic>
      <p:pic>
        <p:nvPicPr>
          <p:cNvPr id="421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299880" cy="2617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40176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68200" y="134640"/>
            <a:ext cx="8685360" cy="116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56214"/>
                </a:solidFill>
                <a:latin typeface="Arial"/>
              </a:rPr>
              <a:t>Waste exchanges are an offshoot of industrial ecology</a:t>
            </a: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80880" y="1523520"/>
            <a:ext cx="7848720" cy="527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spcAft>
                <a:spcPts val="1199"/>
              </a:spcAft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 of industrial ecology is based on a “closed loop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spcAft>
                <a:spcPts val="1199"/>
              </a:spcAft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tes are recycled back through th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spcAft>
                <a:spcPts val="1199"/>
              </a:spcAft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ste exchang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a network service with the goal of linking producers of waste with industries or individuals that can make use of the waste as raw mate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aste Exchange of Canada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www.recyclexchan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18-</a:t>
            </a:r>
            <a:fld id="{B0BCCDE8-21C7-4E00-A5FF-FF584D499E48}" type="slidenum"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6" name="TextBox 4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f1c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27" name="Picture 5" descr="BANNER7672-ATME Logo Banner 1600 x 380.jpg"/>
          <p:cNvPicPr/>
          <p:nvPr/>
        </p:nvPicPr>
        <p:blipFill>
          <a:blip r:embed="rId2"/>
          <a:stretch/>
        </p:blipFill>
        <p:spPr>
          <a:xfrm>
            <a:off x="239760" y="42840"/>
            <a:ext cx="826920" cy="326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6" descr=""/>
          <p:cNvPicPr/>
          <p:nvPr/>
        </p:nvPicPr>
        <p:blipFill>
          <a:blip r:embed="rId3"/>
          <a:stretch/>
        </p:blipFill>
        <p:spPr>
          <a:xfrm>
            <a:off x="5283360" y="44280"/>
            <a:ext cx="353880" cy="281160"/>
          </a:xfrm>
          <a:prstGeom prst="rect">
            <a:avLst/>
          </a:prstGeom>
          <a:ln w="0">
            <a:noFill/>
          </a:ln>
        </p:spPr>
      </p:pic>
      <p:pic>
        <p:nvPicPr>
          <p:cNvPr id="429" name="Google Shape;55;p13" descr=""/>
          <p:cNvPicPr/>
          <p:nvPr/>
        </p:nvPicPr>
        <p:blipFill>
          <a:blip r:embed="rId4"/>
          <a:stretch/>
        </p:blipFill>
        <p:spPr>
          <a:xfrm>
            <a:off x="6438960" y="76320"/>
            <a:ext cx="299880" cy="2617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8" descr=""/>
          <p:cNvPicPr/>
          <p:nvPr/>
        </p:nvPicPr>
        <p:blipFill>
          <a:blip r:embed="rId5"/>
          <a:stretch/>
        </p:blipFill>
        <p:spPr>
          <a:xfrm>
            <a:off x="7696080" y="57240"/>
            <a:ext cx="40176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81916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56214"/>
                </a:solidFill>
                <a:latin typeface="Arial"/>
              </a:rPr>
              <a:t>Hazardous Waste</a:t>
            </a: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18-</a:t>
            </a:r>
            <a:fld id="{662DF4F0-3B5C-456A-8D54-4CD7F6DD464B}" type="slidenum"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3" name="TextBox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f1c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34" name="Picture 4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826920" cy="3268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353880" cy="281160"/>
          </a:xfrm>
          <a:prstGeom prst="rect">
            <a:avLst/>
          </a:prstGeom>
          <a:ln w="0">
            <a:noFill/>
          </a:ln>
        </p:spPr>
      </p:pic>
      <p:pic>
        <p:nvPicPr>
          <p:cNvPr id="436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299880" cy="26172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7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40176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56214"/>
                </a:solidFill>
                <a:latin typeface="Arial"/>
              </a:rPr>
              <a:t>Hazardous waste</a:t>
            </a: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99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adian Environmental Protection A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amm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substances that easily catch f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rros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substances that corrode metals in storage tanks or equi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ctive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bstances that are chemically unstable and readily react with other compounds, often explosively or by producing noxious fu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xic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bstances that harm human health when they are inhaled, are ingested, or contact human sk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18-</a:t>
            </a:r>
            <a:fld id="{5F102331-C024-4505-80CC-C51614BBD767}" type="slidenum"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1" name="TextBox 4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f1c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42" name="Picture 5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826920" cy="3268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6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353880" cy="281160"/>
          </a:xfrm>
          <a:prstGeom prst="rect">
            <a:avLst/>
          </a:prstGeom>
          <a:ln w="0">
            <a:noFill/>
          </a:ln>
        </p:spPr>
      </p:pic>
      <p:pic>
        <p:nvPicPr>
          <p:cNvPr id="444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299880" cy="2617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8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40176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56214"/>
                </a:solidFill>
                <a:latin typeface="Arial"/>
              </a:rPr>
              <a:t>Hazardous wastes have diverse sources</a:t>
            </a: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229600" cy="569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2f6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ouseholds currently are the largest source of unregulated hazardous was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ousehold hazardous waste (HHW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ints, batteries, oils, solvents, cleaning agents, pesticid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2f6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nadians improperly dispose of 27 000 tonnes of HHW each ye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2f6532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verage home has close to 45 kg of hazard was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2f6532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wo classes are particularly hazardo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301"/>
              </a:spcBef>
              <a:buClr>
                <a:srgbClr val="2f6532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ganic compoun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301"/>
              </a:spcBef>
              <a:buClr>
                <a:srgbClr val="2f6532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eavy meta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18-</a:t>
            </a:r>
            <a:fld id="{1B0AD905-BCB3-432A-BC9E-4049916E6BEC}" type="slidenum"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9" name="TextBox 4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f1c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50" name="Picture 5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826920" cy="3268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6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353880" cy="281160"/>
          </a:xfrm>
          <a:prstGeom prst="rect">
            <a:avLst/>
          </a:prstGeom>
          <a:ln w="0">
            <a:noFill/>
          </a:ln>
        </p:spPr>
      </p:pic>
      <p:pic>
        <p:nvPicPr>
          <p:cNvPr id="452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299880" cy="26172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8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40176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68200" y="180720"/>
            <a:ext cx="868536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56214"/>
                </a:solidFill>
                <a:latin typeface="Arial"/>
              </a:rPr>
              <a:t>Organic compounds and heavy metals can be hazardous</a:t>
            </a: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78868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c compoun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particularly hazardous because their toxicity persists over time and synthetic organic compounds resist de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buildings from decaying, kill pests, and keep stored goods inta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resistance to decay causes them to be persistent pollu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are toxic because they are readily absorbed through the sk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can act as mutagens, carcinogens, teratogens, and endocrine disrup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18-</a:t>
            </a:r>
            <a:fld id="{07D56AA8-B1B2-4158-A06A-8291390490C0}" type="slidenum"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7" name="TextBox 4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f1c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58" name="Picture 5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826920" cy="3268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6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353880" cy="281160"/>
          </a:xfrm>
          <a:prstGeom prst="rect">
            <a:avLst/>
          </a:prstGeom>
          <a:ln w="0">
            <a:noFill/>
          </a:ln>
        </p:spPr>
      </p:pic>
      <p:pic>
        <p:nvPicPr>
          <p:cNvPr id="460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299880" cy="26172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8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40176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18-</a:t>
            </a:r>
            <a:fld id="{64DA96CD-D0A4-48E6-8706-E02C711ED4BE}" type="slidenum"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5" name="Picture 4" descr="fg18_01.gif"/>
          <p:cNvPicPr/>
          <p:nvPr/>
        </p:nvPicPr>
        <p:blipFill>
          <a:blip r:embed="rId1"/>
          <a:stretch/>
        </p:blipFill>
        <p:spPr>
          <a:xfrm>
            <a:off x="228600" y="228600"/>
            <a:ext cx="8691480" cy="5948280"/>
          </a:xfrm>
          <a:prstGeom prst="rect">
            <a:avLst/>
          </a:prstGeom>
          <a:ln w="0">
            <a:noFill/>
          </a:ln>
        </p:spPr>
      </p:pic>
      <p:sp>
        <p:nvSpPr>
          <p:cNvPr id="166" name="TextBox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f1c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7" name="Picture 4" descr="BANNER7672-ATME Logo Banner 1600 x 380.jpg"/>
          <p:cNvPicPr/>
          <p:nvPr/>
        </p:nvPicPr>
        <p:blipFill>
          <a:blip r:embed="rId2"/>
          <a:stretch/>
        </p:blipFill>
        <p:spPr>
          <a:xfrm>
            <a:off x="239760" y="42840"/>
            <a:ext cx="826920" cy="326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3"/>
          <a:stretch/>
        </p:blipFill>
        <p:spPr>
          <a:xfrm>
            <a:off x="5283360" y="44280"/>
            <a:ext cx="353880" cy="281160"/>
          </a:xfrm>
          <a:prstGeom prst="rect">
            <a:avLst/>
          </a:prstGeom>
          <a:ln w="0">
            <a:noFill/>
          </a:ln>
        </p:spPr>
      </p:pic>
      <p:pic>
        <p:nvPicPr>
          <p:cNvPr id="169" name="Google Shape;55;p13" descr=""/>
          <p:cNvPicPr/>
          <p:nvPr/>
        </p:nvPicPr>
        <p:blipFill>
          <a:blip r:embed="rId4"/>
          <a:stretch/>
        </p:blipFill>
        <p:spPr>
          <a:xfrm>
            <a:off x="6438960" y="76320"/>
            <a:ext cx="299880" cy="261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"/>
          <p:cNvPicPr/>
          <p:nvPr/>
        </p:nvPicPr>
        <p:blipFill>
          <a:blip r:embed="rId5"/>
          <a:stretch/>
        </p:blipFill>
        <p:spPr>
          <a:xfrm>
            <a:off x="7696080" y="57240"/>
            <a:ext cx="40176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68200" y="180720"/>
            <a:ext cx="868536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56214"/>
                </a:solidFill>
                <a:latin typeface="Arial"/>
              </a:rPr>
              <a:t>Organic compounds and heavy metals can be hazardous </a:t>
            </a:r>
            <a:r>
              <a:rPr b="1" lang="en-US" sz="2800" spc="-1" strike="noStrike">
                <a:solidFill>
                  <a:srgbClr val="c56214"/>
                </a:solidFill>
                <a:latin typeface="Arial"/>
              </a:rPr>
              <a:t>(cont’d)</a:t>
            </a:r>
            <a:endParaRPr b="1" lang="en-US" sz="28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78868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vy me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, chromium, mercury, arsenic, cadmium, tin, and copp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idely in industry for wiring, electronics, metal plating, pigments, and d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enter the environment when they are disposed of imprope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vy metals that are fat soluble and break down slowly are prone to bioaccu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18-</a:t>
            </a:r>
            <a:fld id="{979E296F-8718-4C77-858F-86565D76203E}" type="slidenum"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5" name="TextBox 4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f1c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66" name="Picture 5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826920" cy="32688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6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353880" cy="281160"/>
          </a:xfrm>
          <a:prstGeom prst="rect">
            <a:avLst/>
          </a:prstGeom>
          <a:ln w="0">
            <a:noFill/>
          </a:ln>
        </p:spPr>
      </p:pic>
      <p:pic>
        <p:nvPicPr>
          <p:cNvPr id="468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299880" cy="2617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8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40176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56214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c56214"/>
                </a:solidFill>
                <a:latin typeface="Arial"/>
              </a:rPr>
              <a:t>E-waste” is a new and growing problem</a:t>
            </a: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2f6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ectronic waste (e-waste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waste involving electronic devic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puters, printers, VCRs, fax machines, cell phon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isposed of in landfills, but should be treated as hazardous waste (6% of a typical computer is composed of lead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ome people and businesses are trying to use and reuse electronics to reduce was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rious concerns about health risks to work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18-</a:t>
            </a:r>
            <a:fld id="{E05C8929-0BF2-43AE-9486-58FCB91625E6}" type="slidenum"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3" name="TextBox 4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f1c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74" name="Picture 5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826920" cy="3268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6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353880" cy="281160"/>
          </a:xfrm>
          <a:prstGeom prst="rect">
            <a:avLst/>
          </a:prstGeom>
          <a:ln w="0">
            <a:noFill/>
          </a:ln>
        </p:spPr>
      </p:pic>
      <p:pic>
        <p:nvPicPr>
          <p:cNvPr id="476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299880" cy="26172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8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40176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3"/>
          <p:cNvSpPr/>
          <p:nvPr/>
        </p:nvSpPr>
        <p:spPr>
          <a:xfrm>
            <a:off x="1066680" y="1066680"/>
            <a:ext cx="685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56214"/>
                </a:solidFill>
                <a:latin typeface="Arial"/>
              </a:rPr>
              <a:t>Several steps precede the disposal of hazardous waste</a:t>
            </a: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91880" y="1688760"/>
            <a:ext cx="49892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many years, hazardous waste was discarded without special trea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did not know it was harmful to human 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d the substances would disappear or be dilu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the 1980s, cities designate sites or special collection days to gather household hazardous w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18-</a:t>
            </a:r>
            <a:fld id="{D758982A-BA3E-44DB-8973-A888AC41D452}" type="slidenum"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82" name="Picture 7" descr="fg18_13.gif"/>
          <p:cNvPicPr/>
          <p:nvPr/>
        </p:nvPicPr>
        <p:blipFill>
          <a:blip r:embed="rId1"/>
          <a:stretch/>
        </p:blipFill>
        <p:spPr>
          <a:xfrm>
            <a:off x="5105520" y="1295280"/>
            <a:ext cx="3809880" cy="4851360"/>
          </a:xfrm>
          <a:prstGeom prst="rect">
            <a:avLst/>
          </a:prstGeom>
          <a:ln w="0">
            <a:noFill/>
          </a:ln>
        </p:spPr>
      </p:pic>
      <p:sp>
        <p:nvSpPr>
          <p:cNvPr id="483" name="TextBox 6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f1c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84" name="Picture 7" descr="BANNER7672-ATME Logo Banner 1600 x 380.jpg"/>
          <p:cNvPicPr/>
          <p:nvPr/>
        </p:nvPicPr>
        <p:blipFill>
          <a:blip r:embed="rId2"/>
          <a:stretch/>
        </p:blipFill>
        <p:spPr>
          <a:xfrm>
            <a:off x="239760" y="42840"/>
            <a:ext cx="826920" cy="3268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8" descr=""/>
          <p:cNvPicPr/>
          <p:nvPr/>
        </p:nvPicPr>
        <p:blipFill>
          <a:blip r:embed="rId3"/>
          <a:stretch/>
        </p:blipFill>
        <p:spPr>
          <a:xfrm>
            <a:off x="5283360" y="44280"/>
            <a:ext cx="353880" cy="281160"/>
          </a:xfrm>
          <a:prstGeom prst="rect">
            <a:avLst/>
          </a:prstGeom>
          <a:ln w="0">
            <a:noFill/>
          </a:ln>
        </p:spPr>
      </p:pic>
      <p:pic>
        <p:nvPicPr>
          <p:cNvPr id="486" name="Google Shape;55;p13" descr=""/>
          <p:cNvPicPr/>
          <p:nvPr/>
        </p:nvPicPr>
        <p:blipFill>
          <a:blip r:embed="rId4"/>
          <a:stretch/>
        </p:blipFill>
        <p:spPr>
          <a:xfrm>
            <a:off x="6438960" y="76320"/>
            <a:ext cx="299880" cy="26172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0" descr=""/>
          <p:cNvPicPr/>
          <p:nvPr/>
        </p:nvPicPr>
        <p:blipFill>
          <a:blip r:embed="rId5"/>
          <a:stretch/>
        </p:blipFill>
        <p:spPr>
          <a:xfrm>
            <a:off x="7696080" y="57240"/>
            <a:ext cx="40176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56214"/>
                </a:solidFill>
                <a:latin typeface="Arial"/>
              </a:rPr>
              <a:t>There are three disposal methods for hazardous waste</a:t>
            </a: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880" y="1657080"/>
            <a:ext cx="859968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e landf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rface impound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ep-well inj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methods do nothing to lessen the hazards of the substances but do keep the waste isola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18-</a:t>
            </a:r>
            <a:fld id="{1FFACB15-D47A-4057-8883-EF6DA13ECFD2}" type="slidenum"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1" name="TextBox 4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f1c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92" name="Picture 5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826920" cy="3268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6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353880" cy="281160"/>
          </a:xfrm>
          <a:prstGeom prst="rect">
            <a:avLst/>
          </a:prstGeom>
          <a:ln w="0">
            <a:noFill/>
          </a:ln>
        </p:spPr>
      </p:pic>
      <p:pic>
        <p:nvPicPr>
          <p:cNvPr id="494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299880" cy="2617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8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40176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56214"/>
                </a:solidFill>
                <a:latin typeface="Arial"/>
              </a:rPr>
              <a:t>Secure landfills</a:t>
            </a: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599680" cy="25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ust have several impervious liners and leachate removal syste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sign and construction standards are stricter than for ordinary sanitary landfil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ust be located far from aquif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18-</a:t>
            </a:r>
            <a:fld id="{AF3EB0AC-4F83-4F2B-B843-879EAED10983}" type="slidenum"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9" name="TextBox 4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f1c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00" name="Picture 5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826920" cy="32688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6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353880" cy="281160"/>
          </a:xfrm>
          <a:prstGeom prst="rect">
            <a:avLst/>
          </a:prstGeom>
          <a:ln w="0">
            <a:noFill/>
          </a:ln>
        </p:spPr>
      </p:pic>
      <p:pic>
        <p:nvPicPr>
          <p:cNvPr id="502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299880" cy="2617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8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40176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68200" y="37800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56214"/>
                </a:solidFill>
                <a:latin typeface="Arial"/>
              </a:rPr>
              <a:t>Surface impoundments</a:t>
            </a: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114800" y="1142640"/>
            <a:ext cx="4648320" cy="43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urface impoundments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ore liquid hazardous was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hallow depressions are lined with plastic and cla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sidue of solid hazardous waste is transported elsewhe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underlying clay layer can crack and leak was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ainstorms cause overflow, contaminating nearby are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18-</a:t>
            </a:r>
            <a:fld id="{40C66124-F777-4DFA-B80C-601EF974757E}" type="slidenum"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07" name="Picture 6" descr="fg18_15.gif"/>
          <p:cNvPicPr/>
          <p:nvPr/>
        </p:nvPicPr>
        <p:blipFill>
          <a:blip r:embed="rId1"/>
          <a:stretch/>
        </p:blipFill>
        <p:spPr>
          <a:xfrm>
            <a:off x="609480" y="1143000"/>
            <a:ext cx="2959200" cy="5181480"/>
          </a:xfrm>
          <a:prstGeom prst="rect">
            <a:avLst/>
          </a:prstGeom>
          <a:ln w="0">
            <a:noFill/>
          </a:ln>
        </p:spPr>
      </p:pic>
      <p:sp>
        <p:nvSpPr>
          <p:cNvPr id="508" name="TextBox 5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f1c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09" name="Picture 6" descr="BANNER7672-ATME Logo Banner 1600 x 380.jpg"/>
          <p:cNvPicPr/>
          <p:nvPr/>
        </p:nvPicPr>
        <p:blipFill>
          <a:blip r:embed="rId2"/>
          <a:stretch/>
        </p:blipFill>
        <p:spPr>
          <a:xfrm>
            <a:off x="239760" y="42840"/>
            <a:ext cx="826920" cy="32688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7" descr=""/>
          <p:cNvPicPr/>
          <p:nvPr/>
        </p:nvPicPr>
        <p:blipFill>
          <a:blip r:embed="rId3"/>
          <a:stretch/>
        </p:blipFill>
        <p:spPr>
          <a:xfrm>
            <a:off x="5283360" y="44280"/>
            <a:ext cx="353880" cy="281160"/>
          </a:xfrm>
          <a:prstGeom prst="rect">
            <a:avLst/>
          </a:prstGeom>
          <a:ln w="0">
            <a:noFill/>
          </a:ln>
        </p:spPr>
      </p:pic>
      <p:pic>
        <p:nvPicPr>
          <p:cNvPr id="511" name="Google Shape;55;p13" descr=""/>
          <p:cNvPicPr/>
          <p:nvPr/>
        </p:nvPicPr>
        <p:blipFill>
          <a:blip r:embed="rId4"/>
          <a:stretch/>
        </p:blipFill>
        <p:spPr>
          <a:xfrm>
            <a:off x="6438960" y="76320"/>
            <a:ext cx="299880" cy="2617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9" descr=""/>
          <p:cNvPicPr/>
          <p:nvPr/>
        </p:nvPicPr>
        <p:blipFill>
          <a:blip r:embed="rId5"/>
          <a:stretch/>
        </p:blipFill>
        <p:spPr>
          <a:xfrm>
            <a:off x="7696080" y="57240"/>
            <a:ext cx="40176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56214"/>
                </a:solidFill>
                <a:latin typeface="Arial"/>
              </a:rPr>
              <a:t>Deep-well injection</a:t>
            </a: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459320" y="837720"/>
            <a:ext cx="45324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ep-well inje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a well is drilled deep beneath the water table and waste is injected into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-term dispo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ell is intended to be isolated from groundwater and human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s become corroded and leak waste into s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18-</a:t>
            </a:r>
            <a:fld id="{4842BBA1-BBCF-4AC5-937A-8F1D56A30AE6}" type="slidenum"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16" name="Picture 6" descr="fg18_16.gif"/>
          <p:cNvPicPr/>
          <p:nvPr/>
        </p:nvPicPr>
        <p:blipFill>
          <a:blip r:embed="rId1"/>
          <a:stretch/>
        </p:blipFill>
        <p:spPr>
          <a:xfrm>
            <a:off x="533520" y="1066680"/>
            <a:ext cx="3636720" cy="5077080"/>
          </a:xfrm>
          <a:prstGeom prst="rect">
            <a:avLst/>
          </a:prstGeom>
          <a:ln w="0">
            <a:noFill/>
          </a:ln>
        </p:spPr>
      </p:pic>
      <p:sp>
        <p:nvSpPr>
          <p:cNvPr id="517" name="TextBox 5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f1c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18" name="Picture 6" descr="BANNER7672-ATME Logo Banner 1600 x 380.jpg"/>
          <p:cNvPicPr/>
          <p:nvPr/>
        </p:nvPicPr>
        <p:blipFill>
          <a:blip r:embed="rId2"/>
          <a:stretch/>
        </p:blipFill>
        <p:spPr>
          <a:xfrm>
            <a:off x="239760" y="42840"/>
            <a:ext cx="826920" cy="3268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7" descr=""/>
          <p:cNvPicPr/>
          <p:nvPr/>
        </p:nvPicPr>
        <p:blipFill>
          <a:blip r:embed="rId3"/>
          <a:stretch/>
        </p:blipFill>
        <p:spPr>
          <a:xfrm>
            <a:off x="5283360" y="44280"/>
            <a:ext cx="353880" cy="281160"/>
          </a:xfrm>
          <a:prstGeom prst="rect">
            <a:avLst/>
          </a:prstGeom>
          <a:ln w="0">
            <a:noFill/>
          </a:ln>
        </p:spPr>
      </p:pic>
      <p:pic>
        <p:nvPicPr>
          <p:cNvPr id="520" name="Google Shape;55;p13" descr=""/>
          <p:cNvPicPr/>
          <p:nvPr/>
        </p:nvPicPr>
        <p:blipFill>
          <a:blip r:embed="rId4"/>
          <a:stretch/>
        </p:blipFill>
        <p:spPr>
          <a:xfrm>
            <a:off x="6438960" y="76320"/>
            <a:ext cx="299880" cy="2617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9" descr=""/>
          <p:cNvPicPr/>
          <p:nvPr/>
        </p:nvPicPr>
        <p:blipFill>
          <a:blip r:embed="rId5"/>
          <a:stretch/>
        </p:blipFill>
        <p:spPr>
          <a:xfrm>
            <a:off x="7696080" y="57240"/>
            <a:ext cx="40176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96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56214"/>
                </a:solidFill>
                <a:latin typeface="Arial"/>
              </a:rPr>
              <a:t>Radioactive waste is especially hazardous</a:t>
            </a: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7696080" cy="393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301"/>
              </a:spcBef>
              <a:spcAft>
                <a:spcPts val="1199"/>
              </a:spcAft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adioactive waste is particularly dangerous and persist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301"/>
              </a:spcBef>
              <a:spcAft>
                <a:spcPts val="1199"/>
              </a:spcAft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Geologic isolation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 using the absorptive capacity and impermeability of naturally occurring rock to block contamina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301"/>
              </a:spcBef>
              <a:spcAft>
                <a:spcPts val="1199"/>
              </a:spcAft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ultiple-barrier approach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 engineering the facility to place as many barriers as possible, both physical and chemical, in the pathway of any escaping contamina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18-</a:t>
            </a:r>
            <a:fld id="{19C1E8F9-CEEE-4EF0-A66D-1E902F04BA69}" type="slidenum"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5" name="TextBox 4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f1c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26" name="Picture 5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826920" cy="3268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6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353880" cy="281160"/>
          </a:xfrm>
          <a:prstGeom prst="rect">
            <a:avLst/>
          </a:prstGeom>
          <a:ln w="0">
            <a:noFill/>
          </a:ln>
        </p:spPr>
      </p:pic>
      <p:pic>
        <p:nvPicPr>
          <p:cNvPr id="528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299880" cy="2617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8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40176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67840" y="180720"/>
            <a:ext cx="841860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56214"/>
                </a:solidFill>
                <a:latin typeface="Arial"/>
              </a:rPr>
              <a:t>Contaminated sites are being cleaned up, slowly</a:t>
            </a: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33520" y="1663200"/>
            <a:ext cx="8229600" cy="5293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8,000 Canadian contaminated sites, including priority sites for cleanup activiti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301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aro Mine, Yukon ($14.6 millio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301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nadian Forces Base Esquimalt, British Columbia ($4.56 millio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301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rt Radium Mine, Northwest Territories ($7.1 millio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301"/>
              </a:spcBef>
              <a:spcAft>
                <a:spcPts val="1800"/>
              </a:spcAft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elleville Small Craft Harbour, Ontario ($6.8 millio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0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Brownfield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 sites that have been contaminated but have the potential to be cleaned up and remedia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18-</a:t>
            </a:r>
            <a:fld id="{FD887263-7577-4373-9910-7B965A543CC3}" type="slidenum"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3" name="TextBox 4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f1c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34" name="Picture 5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826920" cy="32688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6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353880" cy="281160"/>
          </a:xfrm>
          <a:prstGeom prst="rect">
            <a:avLst/>
          </a:prstGeom>
          <a:ln w="0">
            <a:noFill/>
          </a:ln>
        </p:spPr>
      </p:pic>
      <p:pic>
        <p:nvPicPr>
          <p:cNvPr id="536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299880" cy="2617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8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40176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56214"/>
                </a:solidFill>
                <a:latin typeface="Arial"/>
              </a:rPr>
              <a:t>Conclusion</a:t>
            </a: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6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rn methods of waste management are far safer for people and gentler on the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ycling and composting are making rapid 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ada has changed from virtually no recycling to diverting nearly 25% of all solid wa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prodigious consumption habits have created more waste than ever befo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ing ways to reduce, reuse and efficiently recycle the materials and goods that we use stands as a key challenge for this centur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18-</a:t>
            </a:r>
            <a:fld id="{585E7BD3-CAC7-42D6-9695-24B1C6A6E80F}" type="slidenum"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1" name="TextBox 4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f1c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42" name="Picture 5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826920" cy="32688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6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353880" cy="281160"/>
          </a:xfrm>
          <a:prstGeom prst="rect">
            <a:avLst/>
          </a:prstGeom>
          <a:ln w="0">
            <a:noFill/>
          </a:ln>
        </p:spPr>
      </p:pic>
      <p:pic>
        <p:nvPicPr>
          <p:cNvPr id="544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299880" cy="26172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8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40176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47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56214"/>
                </a:solidFill>
                <a:latin typeface="Arial"/>
              </a:rPr>
              <a:t>We have several aims in managing waste (cont’d)</a:t>
            </a:r>
            <a:endParaRPr b="1" lang="en-US" sz="28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92240" y="838080"/>
            <a:ext cx="8788320" cy="438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ste stre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flow of waste as it moves from its sources toward disposal destin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efficient use of materials, consume less, buy goods with less packaging, reusing goo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covery (recycling, composting)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best strategy in waste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sends used goods to manufacture new go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os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recovery of organic wa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18-</a:t>
            </a:r>
            <a:fld id="{F6DB1D4F-F21F-4C86-A100-DE5062B465CA}" type="slidenum"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4" name="TextBox 4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f1c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75" name="Picture 5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826920" cy="3268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353880" cy="281160"/>
          </a:xfrm>
          <a:prstGeom prst="rect">
            <a:avLst/>
          </a:prstGeom>
          <a:ln w="0">
            <a:noFill/>
          </a:ln>
        </p:spPr>
      </p:pic>
      <p:pic>
        <p:nvPicPr>
          <p:cNvPr id="177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299880" cy="261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40176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68500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56214"/>
                </a:solidFill>
                <a:latin typeface="Arial"/>
              </a:rPr>
              <a:t>QUESTION: Review</a:t>
            </a: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547" name="Text Box 4"/>
          <p:cNvSpPr/>
          <p:nvPr/>
        </p:nvSpPr>
        <p:spPr>
          <a:xfrm>
            <a:off x="333360" y="900000"/>
            <a:ext cx="863604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7680" indent="-517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ll of the following are three main components of waste management excep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517680" indent="-517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517680" indent="-5176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inimizing the amount of waste we generate 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517680" indent="-5176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ecovering waste materials and finding ways to recycle them 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517680" indent="-5176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isposing of waste safely and effectively 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517680" indent="-5176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ll of these are components of waste management 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517680" indent="-517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    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48" name="PRS Question Icon" descr="PRS Question Icon"/>
          <p:cNvPicPr/>
          <p:nvPr/>
        </p:nvPicPr>
        <p:blipFill>
          <a:blip r:embed="rId1"/>
          <a:stretch/>
        </p:blipFill>
        <p:spPr>
          <a:xfrm>
            <a:off x="8545680" y="146160"/>
            <a:ext cx="547560" cy="547560"/>
          </a:xfrm>
          <a:prstGeom prst="rect">
            <a:avLst/>
          </a:prstGeom>
          <a:ln w="0">
            <a:noFill/>
          </a:ln>
        </p:spPr>
      </p:pic>
      <p:sp>
        <p:nvSpPr>
          <p:cNvPr id="5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18-</a:t>
            </a:r>
            <a:fld id="{F74430BA-53EE-48CA-9640-6CF0D95CCD70}" type="slidenum"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0" name="TextBox 5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f1c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51" name="Picture 6" descr="BANNER7672-ATME Logo Banner 1600 x 380.jpg"/>
          <p:cNvPicPr/>
          <p:nvPr/>
        </p:nvPicPr>
        <p:blipFill>
          <a:blip r:embed="rId2"/>
          <a:stretch/>
        </p:blipFill>
        <p:spPr>
          <a:xfrm>
            <a:off x="239760" y="42840"/>
            <a:ext cx="826920" cy="32688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7" descr=""/>
          <p:cNvPicPr/>
          <p:nvPr/>
        </p:nvPicPr>
        <p:blipFill>
          <a:blip r:embed="rId3"/>
          <a:stretch/>
        </p:blipFill>
        <p:spPr>
          <a:xfrm>
            <a:off x="5283360" y="44280"/>
            <a:ext cx="353880" cy="281160"/>
          </a:xfrm>
          <a:prstGeom prst="rect">
            <a:avLst/>
          </a:prstGeom>
          <a:ln w="0">
            <a:noFill/>
          </a:ln>
        </p:spPr>
      </p:pic>
      <p:pic>
        <p:nvPicPr>
          <p:cNvPr id="553" name="Google Shape;55;p13" descr=""/>
          <p:cNvPicPr/>
          <p:nvPr/>
        </p:nvPicPr>
        <p:blipFill>
          <a:blip r:embed="rId4"/>
          <a:stretch/>
        </p:blipFill>
        <p:spPr>
          <a:xfrm>
            <a:off x="6438960" y="76320"/>
            <a:ext cx="299880" cy="2617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9" descr=""/>
          <p:cNvPicPr/>
          <p:nvPr/>
        </p:nvPicPr>
        <p:blipFill>
          <a:blip r:embed="rId5"/>
          <a:stretch/>
        </p:blipFill>
        <p:spPr>
          <a:xfrm>
            <a:off x="7696080" y="57240"/>
            <a:ext cx="40176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2"/>
          <p:cNvSpPr/>
          <p:nvPr/>
        </p:nvSpPr>
        <p:spPr>
          <a:xfrm>
            <a:off x="304920" y="152280"/>
            <a:ext cx="868500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56214"/>
                </a:solidFill>
                <a:latin typeface="Arial"/>
                <a:ea typeface="MS PGothic"/>
              </a:rPr>
              <a:t>QUESTION: Review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56" name="PRS Question Icon" descr="PRS Question Icon"/>
          <p:cNvPicPr/>
          <p:nvPr/>
        </p:nvPicPr>
        <p:blipFill>
          <a:blip r:embed="rId1"/>
          <a:stretch/>
        </p:blipFill>
        <p:spPr>
          <a:xfrm>
            <a:off x="8545680" y="146160"/>
            <a:ext cx="547560" cy="54756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8229600" cy="35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ithin a sanitary landfill, waste is…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     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ured into deep wel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ored in large piles and then burned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uried in the ground or piled up in large, carefully engineered mound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t onto barges and shipped overse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18-</a:t>
            </a:r>
            <a:fld id="{498CAB6E-BCD5-4AF8-9DF2-9AE5439D426D}" type="slidenum"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9" name="TextBox 5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f1c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60" name="Picture 6" descr="BANNER7672-ATME Logo Banner 1600 x 380.jpg"/>
          <p:cNvPicPr/>
          <p:nvPr/>
        </p:nvPicPr>
        <p:blipFill>
          <a:blip r:embed="rId2"/>
          <a:stretch/>
        </p:blipFill>
        <p:spPr>
          <a:xfrm>
            <a:off x="239760" y="42840"/>
            <a:ext cx="826920" cy="32688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7" descr=""/>
          <p:cNvPicPr/>
          <p:nvPr/>
        </p:nvPicPr>
        <p:blipFill>
          <a:blip r:embed="rId3"/>
          <a:stretch/>
        </p:blipFill>
        <p:spPr>
          <a:xfrm>
            <a:off x="5283360" y="44280"/>
            <a:ext cx="353880" cy="281160"/>
          </a:xfrm>
          <a:prstGeom prst="rect">
            <a:avLst/>
          </a:prstGeom>
          <a:ln w="0">
            <a:noFill/>
          </a:ln>
        </p:spPr>
      </p:pic>
      <p:pic>
        <p:nvPicPr>
          <p:cNvPr id="562" name="Google Shape;55;p13" descr=""/>
          <p:cNvPicPr/>
          <p:nvPr/>
        </p:nvPicPr>
        <p:blipFill>
          <a:blip r:embed="rId4"/>
          <a:stretch/>
        </p:blipFill>
        <p:spPr>
          <a:xfrm>
            <a:off x="6438960" y="76320"/>
            <a:ext cx="299880" cy="2617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9" descr=""/>
          <p:cNvPicPr/>
          <p:nvPr/>
        </p:nvPicPr>
        <p:blipFill>
          <a:blip r:embed="rId5"/>
          <a:stretch/>
        </p:blipFill>
        <p:spPr>
          <a:xfrm>
            <a:off x="7696080" y="57240"/>
            <a:ext cx="40176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2"/>
          <p:cNvSpPr/>
          <p:nvPr/>
        </p:nvSpPr>
        <p:spPr>
          <a:xfrm>
            <a:off x="304920" y="152280"/>
            <a:ext cx="868500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56214"/>
                </a:solidFill>
                <a:latin typeface="Arial"/>
                <a:ea typeface="MS PGothic"/>
              </a:rPr>
              <a:t>QUESTION: Review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65" name="PRS Question Icon" descr="PRS Question Icon"/>
          <p:cNvPicPr/>
          <p:nvPr/>
        </p:nvPicPr>
        <p:blipFill>
          <a:blip r:embed="rId1"/>
          <a:stretch/>
        </p:blipFill>
        <p:spPr>
          <a:xfrm>
            <a:off x="8545680" y="146160"/>
            <a:ext cx="547560" cy="547560"/>
          </a:xfrm>
          <a:prstGeom prst="rect">
            <a:avLst/>
          </a:prstGeom>
          <a:ln w="0">
            <a:noFill/>
          </a:ln>
        </p:spPr>
      </p:pic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152280" y="914040"/>
            <a:ext cx="8229600" cy="41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at are some ways we can reduce the amount of items entering the waste stream?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onate used items to charit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uy groceries in bulk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uy rechargeable batteri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l of the above are ways to reduce the waste strea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18-</a:t>
            </a:r>
            <a:fld id="{22A51C34-9995-42C4-8B3E-98AB01F15E71}" type="slidenum"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8" name="TextBox 5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f1c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69" name="Picture 6" descr="BANNER7672-ATME Logo Banner 1600 x 380.jpg"/>
          <p:cNvPicPr/>
          <p:nvPr/>
        </p:nvPicPr>
        <p:blipFill>
          <a:blip r:embed="rId2"/>
          <a:stretch/>
        </p:blipFill>
        <p:spPr>
          <a:xfrm>
            <a:off x="239760" y="42840"/>
            <a:ext cx="826920" cy="3268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7" descr=""/>
          <p:cNvPicPr/>
          <p:nvPr/>
        </p:nvPicPr>
        <p:blipFill>
          <a:blip r:embed="rId3"/>
          <a:stretch/>
        </p:blipFill>
        <p:spPr>
          <a:xfrm>
            <a:off x="5283360" y="44280"/>
            <a:ext cx="353880" cy="281160"/>
          </a:xfrm>
          <a:prstGeom prst="rect">
            <a:avLst/>
          </a:prstGeom>
          <a:ln w="0">
            <a:noFill/>
          </a:ln>
        </p:spPr>
      </p:pic>
      <p:pic>
        <p:nvPicPr>
          <p:cNvPr id="571" name="Google Shape;55;p13" descr=""/>
          <p:cNvPicPr/>
          <p:nvPr/>
        </p:nvPicPr>
        <p:blipFill>
          <a:blip r:embed="rId4"/>
          <a:stretch/>
        </p:blipFill>
        <p:spPr>
          <a:xfrm>
            <a:off x="6438960" y="76320"/>
            <a:ext cx="299880" cy="26172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"/>
          <p:cNvPicPr/>
          <p:nvPr/>
        </p:nvPicPr>
        <p:blipFill>
          <a:blip r:embed="rId5"/>
          <a:stretch/>
        </p:blipFill>
        <p:spPr>
          <a:xfrm>
            <a:off x="7696080" y="57240"/>
            <a:ext cx="40176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2"/>
          <p:cNvSpPr/>
          <p:nvPr/>
        </p:nvSpPr>
        <p:spPr>
          <a:xfrm>
            <a:off x="304920" y="152280"/>
            <a:ext cx="868500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56214"/>
                </a:solidFill>
                <a:latin typeface="Arial"/>
                <a:ea typeface="MS PGothic"/>
              </a:rPr>
              <a:t>QUESTION: Review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74" name="PRS Question Icon" descr="PRS Question Icon"/>
          <p:cNvPicPr/>
          <p:nvPr/>
        </p:nvPicPr>
        <p:blipFill>
          <a:blip r:embed="rId1"/>
          <a:stretch/>
        </p:blipFill>
        <p:spPr>
          <a:xfrm>
            <a:off x="8545680" y="146160"/>
            <a:ext cx="547560" cy="54756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80880" y="1152000"/>
            <a:ext cx="822960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dustrial ecology is defined by all of the following EXCEP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designing industrial systems to reduce resource inpu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mining the entire life cycle of a given product 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inimizing physical inefficienc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ximizing economic efficien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18-</a:t>
            </a:r>
            <a:fld id="{F58DD22F-A146-4412-93F1-AF274CBBC48D}" type="slidenum"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7" name="TextBox 5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f1c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78" name="Picture 6" descr="BANNER7672-ATME Logo Banner 1600 x 380.jpg"/>
          <p:cNvPicPr/>
          <p:nvPr/>
        </p:nvPicPr>
        <p:blipFill>
          <a:blip r:embed="rId2"/>
          <a:stretch/>
        </p:blipFill>
        <p:spPr>
          <a:xfrm>
            <a:off x="239760" y="42840"/>
            <a:ext cx="826920" cy="32688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7" descr=""/>
          <p:cNvPicPr/>
          <p:nvPr/>
        </p:nvPicPr>
        <p:blipFill>
          <a:blip r:embed="rId3"/>
          <a:stretch/>
        </p:blipFill>
        <p:spPr>
          <a:xfrm>
            <a:off x="5283360" y="44280"/>
            <a:ext cx="353880" cy="281160"/>
          </a:xfrm>
          <a:prstGeom prst="rect">
            <a:avLst/>
          </a:prstGeom>
          <a:ln w="0">
            <a:noFill/>
          </a:ln>
        </p:spPr>
      </p:pic>
      <p:pic>
        <p:nvPicPr>
          <p:cNvPr id="580" name="Google Shape;55;p13" descr=""/>
          <p:cNvPicPr/>
          <p:nvPr/>
        </p:nvPicPr>
        <p:blipFill>
          <a:blip r:embed="rId4"/>
          <a:stretch/>
        </p:blipFill>
        <p:spPr>
          <a:xfrm>
            <a:off x="6438960" y="76320"/>
            <a:ext cx="299880" cy="26172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9" descr=""/>
          <p:cNvPicPr/>
          <p:nvPr/>
        </p:nvPicPr>
        <p:blipFill>
          <a:blip r:embed="rId5"/>
          <a:stretch/>
        </p:blipFill>
        <p:spPr>
          <a:xfrm>
            <a:off x="7696080" y="57240"/>
            <a:ext cx="40176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304920" y="152280"/>
            <a:ext cx="868500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56214"/>
                </a:solidFill>
                <a:latin typeface="Arial"/>
                <a:ea typeface="MS PGothic"/>
              </a:rPr>
              <a:t>QUESTION: Review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83" name="PRS Question Icon" descr="PRS Question Icon"/>
          <p:cNvPicPr/>
          <p:nvPr/>
        </p:nvPicPr>
        <p:blipFill>
          <a:blip r:embed="rId1"/>
          <a:stretch/>
        </p:blipFill>
        <p:spPr>
          <a:xfrm>
            <a:off x="8545680" y="146160"/>
            <a:ext cx="547560" cy="54756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355680" y="837720"/>
            <a:ext cx="8788320" cy="36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of the following are disposal methods for hazardous was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f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rface impound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jection w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f the above are dispos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18-</a:t>
            </a:r>
            <a:fld id="{C0D72E1B-3F4B-4E3F-A1AA-9ABDE45FB8C2}" type="slidenum"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6" name="TextBox 5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f1c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87" name="Picture 6" descr="BANNER7672-ATME Logo Banner 1600 x 380.jpg"/>
          <p:cNvPicPr/>
          <p:nvPr/>
        </p:nvPicPr>
        <p:blipFill>
          <a:blip r:embed="rId2"/>
          <a:stretch/>
        </p:blipFill>
        <p:spPr>
          <a:xfrm>
            <a:off x="239760" y="42840"/>
            <a:ext cx="826920" cy="32688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7" descr=""/>
          <p:cNvPicPr/>
          <p:nvPr/>
        </p:nvPicPr>
        <p:blipFill>
          <a:blip r:embed="rId3"/>
          <a:stretch/>
        </p:blipFill>
        <p:spPr>
          <a:xfrm>
            <a:off x="5283360" y="44280"/>
            <a:ext cx="353880" cy="281160"/>
          </a:xfrm>
          <a:prstGeom prst="rect">
            <a:avLst/>
          </a:prstGeom>
          <a:ln w="0">
            <a:noFill/>
          </a:ln>
        </p:spPr>
      </p:pic>
      <p:pic>
        <p:nvPicPr>
          <p:cNvPr id="589" name="Google Shape;55;p13" descr=""/>
          <p:cNvPicPr/>
          <p:nvPr/>
        </p:nvPicPr>
        <p:blipFill>
          <a:blip r:embed="rId4"/>
          <a:stretch/>
        </p:blipFill>
        <p:spPr>
          <a:xfrm>
            <a:off x="6438960" y="76320"/>
            <a:ext cx="299880" cy="26172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9" descr=""/>
          <p:cNvPicPr/>
          <p:nvPr/>
        </p:nvPicPr>
        <p:blipFill>
          <a:blip r:embed="rId5"/>
          <a:stretch/>
        </p:blipFill>
        <p:spPr>
          <a:xfrm>
            <a:off x="7696080" y="57240"/>
            <a:ext cx="40176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56214"/>
                </a:solidFill>
                <a:latin typeface="Arial"/>
              </a:rPr>
              <a:t>QUESTION: Review</a:t>
            </a: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pic>
        <p:nvPicPr>
          <p:cNvPr id="592" name="PRS Question Icon" descr="PRS Question Icon"/>
          <p:cNvPicPr/>
          <p:nvPr/>
        </p:nvPicPr>
        <p:blipFill>
          <a:blip r:embed="rId1"/>
          <a:stretch/>
        </p:blipFill>
        <p:spPr>
          <a:xfrm>
            <a:off x="8545680" y="146160"/>
            <a:ext cx="547560" cy="5475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8788320" cy="42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oactive waste 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dangerous, but is not persistent in the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not harmful to the environment, but is persis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dangerous to human health and is persis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not dangerous to human health, but is dangerous to the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18-</a:t>
            </a:r>
            <a:fld id="{97575262-421A-4236-8D75-3EBAAC6F335A}" type="slidenum"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5" name="TextBox 5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f1c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96" name="Picture 6" descr="BANNER7672-ATME Logo Banner 1600 x 380.jpg"/>
          <p:cNvPicPr/>
          <p:nvPr/>
        </p:nvPicPr>
        <p:blipFill>
          <a:blip r:embed="rId2"/>
          <a:stretch/>
        </p:blipFill>
        <p:spPr>
          <a:xfrm>
            <a:off x="239760" y="42840"/>
            <a:ext cx="826920" cy="32688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7" descr=""/>
          <p:cNvPicPr/>
          <p:nvPr/>
        </p:nvPicPr>
        <p:blipFill>
          <a:blip r:embed="rId3"/>
          <a:stretch/>
        </p:blipFill>
        <p:spPr>
          <a:xfrm>
            <a:off x="5283360" y="44280"/>
            <a:ext cx="353880" cy="281160"/>
          </a:xfrm>
          <a:prstGeom prst="rect">
            <a:avLst/>
          </a:prstGeom>
          <a:ln w="0">
            <a:noFill/>
          </a:ln>
        </p:spPr>
      </p:pic>
      <p:pic>
        <p:nvPicPr>
          <p:cNvPr id="598" name="Google Shape;55;p13" descr=""/>
          <p:cNvPicPr/>
          <p:nvPr/>
        </p:nvPicPr>
        <p:blipFill>
          <a:blip r:embed="rId4"/>
          <a:stretch/>
        </p:blipFill>
        <p:spPr>
          <a:xfrm>
            <a:off x="6438960" y="76320"/>
            <a:ext cx="299880" cy="26172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9" descr=""/>
          <p:cNvPicPr/>
          <p:nvPr/>
        </p:nvPicPr>
        <p:blipFill>
          <a:blip r:embed="rId5"/>
          <a:stretch/>
        </p:blipFill>
        <p:spPr>
          <a:xfrm>
            <a:off x="7696080" y="57240"/>
            <a:ext cx="40176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68200" y="181080"/>
            <a:ext cx="8685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56214"/>
                </a:solidFill>
                <a:latin typeface="Arial"/>
              </a:rPr>
              <a:t>QUESTION: Interpreting Graphs and Data</a:t>
            </a: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914040" y="685800"/>
            <a:ext cx="7924680" cy="265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statement is false for this figu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720" indent="-5317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per makes up most of the solid w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720" indent="-5317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stable material is a significant part of solid w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720" indent="-5317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ass recycling would have the greatest impact on solid w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720" indent="-5317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ls are part of solid w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RS Question Icon" descr="PRS Question Icon"/>
          <p:cNvPicPr/>
          <p:nvPr/>
        </p:nvPicPr>
        <p:blipFill>
          <a:blip r:embed="rId1"/>
          <a:stretch/>
        </p:blipFill>
        <p:spPr>
          <a:xfrm>
            <a:off x="8545680" y="146160"/>
            <a:ext cx="547560" cy="547560"/>
          </a:xfrm>
          <a:prstGeom prst="rect">
            <a:avLst/>
          </a:prstGeom>
          <a:ln w="0">
            <a:noFill/>
          </a:ln>
        </p:spPr>
      </p:pic>
      <p:sp>
        <p:nvSpPr>
          <p:cNvPr id="6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18-</a:t>
            </a:r>
            <a:fld id="{F0BD69F4-00E9-4265-B315-A716D6B7FEB1}" type="slidenum"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04" name="Picture 8" descr="fg18_02.gif"/>
          <p:cNvPicPr/>
          <p:nvPr/>
        </p:nvPicPr>
        <p:blipFill>
          <a:blip r:embed="rId2"/>
          <a:stretch/>
        </p:blipFill>
        <p:spPr>
          <a:xfrm>
            <a:off x="380880" y="2971800"/>
            <a:ext cx="6400800" cy="3425760"/>
          </a:xfrm>
          <a:prstGeom prst="rect">
            <a:avLst/>
          </a:prstGeom>
          <a:ln w="0">
            <a:noFill/>
          </a:ln>
        </p:spPr>
      </p:pic>
      <p:sp>
        <p:nvSpPr>
          <p:cNvPr id="605" name="TextBox 6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f1c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06" name="Picture 7" descr="BANNER7672-ATME Logo Banner 1600 x 380.jpg"/>
          <p:cNvPicPr/>
          <p:nvPr/>
        </p:nvPicPr>
        <p:blipFill>
          <a:blip r:embed="rId3"/>
          <a:stretch/>
        </p:blipFill>
        <p:spPr>
          <a:xfrm>
            <a:off x="239760" y="42840"/>
            <a:ext cx="826920" cy="32688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8" descr=""/>
          <p:cNvPicPr/>
          <p:nvPr/>
        </p:nvPicPr>
        <p:blipFill>
          <a:blip r:embed="rId4"/>
          <a:stretch/>
        </p:blipFill>
        <p:spPr>
          <a:xfrm>
            <a:off x="5283360" y="44280"/>
            <a:ext cx="353880" cy="281160"/>
          </a:xfrm>
          <a:prstGeom prst="rect">
            <a:avLst/>
          </a:prstGeom>
          <a:ln w="0">
            <a:noFill/>
          </a:ln>
        </p:spPr>
      </p:pic>
      <p:pic>
        <p:nvPicPr>
          <p:cNvPr id="608" name="Google Shape;55;p13" descr=""/>
          <p:cNvPicPr/>
          <p:nvPr/>
        </p:nvPicPr>
        <p:blipFill>
          <a:blip r:embed="rId5"/>
          <a:stretch/>
        </p:blipFill>
        <p:spPr>
          <a:xfrm>
            <a:off x="6438960" y="76320"/>
            <a:ext cx="299880" cy="26172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0" descr=""/>
          <p:cNvPicPr/>
          <p:nvPr/>
        </p:nvPicPr>
        <p:blipFill>
          <a:blip r:embed="rId6"/>
          <a:stretch/>
        </p:blipFill>
        <p:spPr>
          <a:xfrm>
            <a:off x="7696080" y="57240"/>
            <a:ext cx="40176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560" y="2742840"/>
            <a:ext cx="868500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56214"/>
                </a:solidFill>
                <a:latin typeface="Arial"/>
              </a:rPr>
              <a:t>Municipal Solid Waste </a:t>
            </a: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18-</a:t>
            </a:r>
            <a:fld id="{58F1B1E0-823A-4904-A47F-4364BD046B4D}" type="slidenum"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f1c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82" name="Picture 4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826920" cy="3268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353880" cy="281160"/>
          </a:xfrm>
          <a:prstGeom prst="rect">
            <a:avLst/>
          </a:prstGeom>
          <a:ln w="0">
            <a:noFill/>
          </a:ln>
        </p:spPr>
      </p:pic>
      <p:pic>
        <p:nvPicPr>
          <p:cNvPr id="184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299880" cy="261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40176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68200" y="180720"/>
            <a:ext cx="811368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56214"/>
                </a:solidFill>
                <a:latin typeface="Arial"/>
              </a:rPr>
              <a:t>Patterns in the municipal solid waste stream vary from place to place</a:t>
            </a:r>
            <a:endParaRPr b="1" lang="en-US" sz="3200" spc="-1" strike="noStrike">
              <a:solidFill>
                <a:srgbClr val="c56214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549440"/>
            <a:ext cx="76201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nicipal solid waste is also referred to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a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arb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anada, paper, organics, and plastics are the principal components of municipal solid w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after recycling, paper is the largest component of solid w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008, 2.2 kg per person per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developing countries, food scraps are the primary contributor to solid w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c56214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y nations invest more in waste collection and dispo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18-</a:t>
            </a:r>
            <a:fld id="{D791334B-762E-48B9-BF2C-8C3D3FAD6473}" type="slidenum"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TextBox 4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f1c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90" name="Picture 5" descr="BANNER7672-ATME Logo Banner 1600 x 380.jpg"/>
          <p:cNvPicPr/>
          <p:nvPr/>
        </p:nvPicPr>
        <p:blipFill>
          <a:blip r:embed="rId1"/>
          <a:stretch/>
        </p:blipFill>
        <p:spPr>
          <a:xfrm>
            <a:off x="239760" y="42840"/>
            <a:ext cx="826920" cy="3268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"/>
          <p:cNvPicPr/>
          <p:nvPr/>
        </p:nvPicPr>
        <p:blipFill>
          <a:blip r:embed="rId2"/>
          <a:stretch/>
        </p:blipFill>
        <p:spPr>
          <a:xfrm>
            <a:off x="5283360" y="44280"/>
            <a:ext cx="353880" cy="281160"/>
          </a:xfrm>
          <a:prstGeom prst="rect">
            <a:avLst/>
          </a:prstGeom>
          <a:ln w="0">
            <a:noFill/>
          </a:ln>
        </p:spPr>
      </p:pic>
      <p:pic>
        <p:nvPicPr>
          <p:cNvPr id="192" name="Google Shape;55;p13" descr=""/>
          <p:cNvPicPr/>
          <p:nvPr/>
        </p:nvPicPr>
        <p:blipFill>
          <a:blip r:embed="rId3"/>
          <a:stretch/>
        </p:blipFill>
        <p:spPr>
          <a:xfrm>
            <a:off x="6438960" y="76320"/>
            <a:ext cx="299880" cy="261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"/>
          <p:cNvPicPr/>
          <p:nvPr/>
        </p:nvPicPr>
        <p:blipFill>
          <a:blip r:embed="rId4"/>
          <a:stretch/>
        </p:blipFill>
        <p:spPr>
          <a:xfrm>
            <a:off x="7696080" y="57240"/>
            <a:ext cx="40176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18-</a:t>
            </a:r>
            <a:fld id="{E7F1F988-844F-4FEE-90BC-92B6C15EBEDF}" type="slidenum"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95" name="Picture 4" descr="fg18_02.gif"/>
          <p:cNvPicPr/>
          <p:nvPr/>
        </p:nvPicPr>
        <p:blipFill>
          <a:blip r:embed="rId1"/>
          <a:srcRect l="0" t="0" r="48199" b="29032"/>
          <a:stretch/>
        </p:blipFill>
        <p:spPr>
          <a:xfrm>
            <a:off x="1371600" y="233280"/>
            <a:ext cx="6019920" cy="4415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fg18_02.gif"/>
          <p:cNvPicPr/>
          <p:nvPr/>
        </p:nvPicPr>
        <p:blipFill>
          <a:blip r:embed="rId2"/>
          <a:srcRect l="0" t="69362" r="0" b="0"/>
          <a:stretch/>
        </p:blipFill>
        <p:spPr>
          <a:xfrm>
            <a:off x="241200" y="4572000"/>
            <a:ext cx="8826480" cy="1447920"/>
          </a:xfrm>
          <a:prstGeom prst="rect">
            <a:avLst/>
          </a:prstGeom>
          <a:ln w="0">
            <a:noFill/>
          </a:ln>
        </p:spPr>
      </p:pic>
      <p:sp>
        <p:nvSpPr>
          <p:cNvPr id="197" name="TextBox 4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f1c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98" name="Picture 5" descr="BANNER7672-ATME Logo Banner 1600 x 380.jpg"/>
          <p:cNvPicPr/>
          <p:nvPr/>
        </p:nvPicPr>
        <p:blipFill>
          <a:blip r:embed="rId3"/>
          <a:stretch/>
        </p:blipFill>
        <p:spPr>
          <a:xfrm>
            <a:off x="239760" y="42840"/>
            <a:ext cx="826920" cy="326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"/>
          <p:cNvPicPr/>
          <p:nvPr/>
        </p:nvPicPr>
        <p:blipFill>
          <a:blip r:embed="rId4"/>
          <a:stretch/>
        </p:blipFill>
        <p:spPr>
          <a:xfrm>
            <a:off x="5283360" y="44280"/>
            <a:ext cx="353880" cy="281160"/>
          </a:xfrm>
          <a:prstGeom prst="rect">
            <a:avLst/>
          </a:prstGeom>
          <a:ln w="0">
            <a:noFill/>
          </a:ln>
        </p:spPr>
      </p:pic>
      <p:pic>
        <p:nvPicPr>
          <p:cNvPr id="200" name="Google Shape;55;p13" descr=""/>
          <p:cNvPicPr/>
          <p:nvPr/>
        </p:nvPicPr>
        <p:blipFill>
          <a:blip r:embed="rId5"/>
          <a:stretch/>
        </p:blipFill>
        <p:spPr>
          <a:xfrm>
            <a:off x="6438960" y="76320"/>
            <a:ext cx="299880" cy="261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"/>
          <p:cNvPicPr/>
          <p:nvPr/>
        </p:nvPicPr>
        <p:blipFill>
          <a:blip r:embed="rId6"/>
          <a:stretch/>
        </p:blipFill>
        <p:spPr>
          <a:xfrm>
            <a:off x="7696080" y="57240"/>
            <a:ext cx="40176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18-</a:t>
            </a:r>
            <a:fld id="{B3EA948F-3C6A-4C5D-9D4B-F4B8043F8F8D}" type="slidenum">
              <a:rPr b="0" lang="en-US" sz="1200" spc="-1" strike="noStrike">
                <a:solidFill>
                  <a:srgbClr val="898989"/>
                </a:solidFill>
                <a:latin typeface="Garamon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3" name="Picture 4" descr="fg18_02.gif"/>
          <p:cNvPicPr/>
          <p:nvPr/>
        </p:nvPicPr>
        <p:blipFill>
          <a:blip r:embed="rId1"/>
          <a:srcRect l="0" t="69362" r="0" b="0"/>
          <a:stretch/>
        </p:blipFill>
        <p:spPr>
          <a:xfrm>
            <a:off x="228600" y="4657680"/>
            <a:ext cx="8763120" cy="14382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fg18_02.gif"/>
          <p:cNvPicPr/>
          <p:nvPr/>
        </p:nvPicPr>
        <p:blipFill>
          <a:blip r:embed="rId2"/>
          <a:srcRect l="50004" t="-1440" r="9167" b="31324"/>
          <a:stretch/>
        </p:blipFill>
        <p:spPr>
          <a:xfrm>
            <a:off x="1981080" y="304920"/>
            <a:ext cx="4724640" cy="4343400"/>
          </a:xfrm>
          <a:prstGeom prst="rect">
            <a:avLst/>
          </a:prstGeom>
          <a:ln w="0">
            <a:noFill/>
          </a:ln>
        </p:spPr>
      </p:pic>
      <p:sp>
        <p:nvSpPr>
          <p:cNvPr id="205" name="TextBox 4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f1c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6" name="Picture 5" descr="BANNER7672-ATME Logo Banner 1600 x 380.jpg"/>
          <p:cNvPicPr/>
          <p:nvPr/>
        </p:nvPicPr>
        <p:blipFill>
          <a:blip r:embed="rId3"/>
          <a:stretch/>
        </p:blipFill>
        <p:spPr>
          <a:xfrm>
            <a:off x="239760" y="42840"/>
            <a:ext cx="826920" cy="3268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"/>
          <p:cNvPicPr/>
          <p:nvPr/>
        </p:nvPicPr>
        <p:blipFill>
          <a:blip r:embed="rId4"/>
          <a:stretch/>
        </p:blipFill>
        <p:spPr>
          <a:xfrm>
            <a:off x="5283360" y="44280"/>
            <a:ext cx="353880" cy="281160"/>
          </a:xfrm>
          <a:prstGeom prst="rect">
            <a:avLst/>
          </a:prstGeom>
          <a:ln w="0">
            <a:noFill/>
          </a:ln>
        </p:spPr>
      </p:pic>
      <p:pic>
        <p:nvPicPr>
          <p:cNvPr id="208" name="Google Shape;55;p13" descr=""/>
          <p:cNvPicPr/>
          <p:nvPr/>
        </p:nvPicPr>
        <p:blipFill>
          <a:blip r:embed="rId5"/>
          <a:stretch/>
        </p:blipFill>
        <p:spPr>
          <a:xfrm>
            <a:off x="6438960" y="76320"/>
            <a:ext cx="299880" cy="2617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"/>
          <p:cNvPicPr/>
          <p:nvPr/>
        </p:nvPicPr>
        <p:blipFill>
          <a:blip r:embed="rId6"/>
          <a:stretch/>
        </p:blipFill>
        <p:spPr>
          <a:xfrm>
            <a:off x="7696080" y="57240"/>
            <a:ext cx="40176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5:13:34Z</dcterms:created>
  <dc:creator>Information Commons Services</dc:creator>
  <dc:description/>
  <dc:language>en-US</dc:language>
  <cp:lastModifiedBy>Dr SUNEETH KUMAR</cp:lastModifiedBy>
  <dcterms:modified xsi:type="dcterms:W3CDTF">2022-05-04T16:28:11Z</dcterms:modified>
  <cp:revision>229</cp:revision>
  <dc:subject/>
  <dc:title>Slide 1</dc:title>
</cp:coreProperties>
</file>