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8EB-CA4C-40E6-A86E-F08AF9159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8405-F960-44BF-A354-E30A9E010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, 64, 96 gal c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616-E2A9-4B0C-B334-26D04CDE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7D0-65DA-4AD6-B4C6-8E944C7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AE1-E6B2-4B49-A680-BB85291A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F73-15F7-4B7B-A47C-69F050E7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FF8-EA7E-42AA-B390-9A6D000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1409-4665-4687-84C4-FCD128CC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E294-E64A-4E58-8C91-05B0661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AC66-0B59-432A-B2AF-11CE57A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2C3-0ABA-4B6B-A568-D8EF3E39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1874-7755-4D5D-98E4-2125BE1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435-C914-4FD6-9717-C808C5F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958-85BA-4004-B342-BA1F69F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6865-6103-4D04-8E7D-D0B690D4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E2B5-3235-42F9-9637-10C64A1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8A2D-E422-49F8-9154-FF36A9A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E57D-D47B-4723-A70D-6162DF1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057-5C30-43E7-A424-FD7A85BA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2E4-810D-4316-9892-302B929D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53B-108F-4B49-BAD0-E747DD5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14F-4A99-48BE-AA09-0DC91FA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C94-0E9E-461C-9164-0675343D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F11-5E75-41BC-B437-FBB6324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6BA-9863-4338-B298-742FFB2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E2E-5C93-467F-86A9-40DCCA6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48E9-84A9-48F0-BEC9-2FAC38A5687D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worldleft"/>
          <p:cNvPicPr/>
          <p:nvPr/>
        </p:nvPicPr>
        <p:blipFill>
          <a:blip r:embed="rId2"/>
          <a:srcRect l="6331" t="9137" r="-1292" b="14287"/>
          <a:stretch/>
        </p:blipFill>
        <p:spPr>
          <a:xfrm>
            <a:off x="7924680" y="5791320"/>
            <a:ext cx="914400" cy="857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smallucflogo"/>
          <p:cNvPicPr/>
          <p:nvPr/>
        </p:nvPicPr>
        <p:blipFill>
          <a:blip r:embed="rId3"/>
          <a:stretch/>
        </p:blipFill>
        <p:spPr>
          <a:xfrm>
            <a:off x="0" y="762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533520" y="1828800"/>
            <a:ext cx="708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1295280" y="9144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31" descr="worldleft"/>
          <p:cNvPicPr/>
          <p:nvPr/>
        </p:nvPicPr>
        <p:blipFill>
          <a:blip r:embed="rId2"/>
          <a:stretch/>
        </p:blipFill>
        <p:spPr>
          <a:xfrm>
            <a:off x="3200400" y="3200400"/>
            <a:ext cx="3147840" cy="2936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77C-AB6F-4204-8375-8333BD195C2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arkewaste.com/products_Labrie_TopSelect.htm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heil.com/products/recyclers.asp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msw.cecs.ucf.edu/wastecollection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ste Collection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351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overed_t"/>
          <p:cNvPicPr/>
          <p:nvPr/>
        </p:nvPicPr>
        <p:blipFill>
          <a:blip r:embed="rId1"/>
          <a:stretch/>
        </p:blipFill>
        <p:spPr>
          <a:xfrm>
            <a:off x="5562720" y="609480"/>
            <a:ext cx="2822400" cy="169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99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idential Collection Unit (RCU)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59436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 O’Brien, J. K. “The Benchmarking of Residential Solid Waste Collection Service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SW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ept/Oct 2007, pp 12 – 2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133720"/>
          <a:ext cx="6553080" cy="3327120"/>
        </p:xfrm>
        <a:graphic>
          <a:graphicData uri="http://schemas.openxmlformats.org/drawingml/2006/table">
            <a:tbl>
              <a:tblPr/>
              <a:tblGrid>
                <a:gridCol w="3276720"/>
                <a:gridCol w="3276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llection Method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RCUs/Crew/On-Route H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mi-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n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ll Meth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70"/>
          <p:cNvSpPr/>
          <p:nvPr/>
        </p:nvSpPr>
        <p:spPr>
          <a:xfrm>
            <a:off x="1445400" y="556272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Once-per-week curbside wast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5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tenance Cos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1981080"/>
          <a:ext cx="7239240" cy="2971800"/>
        </p:xfrm>
        <a:graphic>
          <a:graphicData uri="http://schemas.openxmlformats.org/drawingml/2006/table">
            <a:tbl>
              <a:tblPr/>
              <a:tblGrid>
                <a:gridCol w="3276720"/>
                <a:gridCol w="39625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llection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nual Maintenance Cost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mi-autom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n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58"/>
          <p:cNvSpPr/>
          <p:nvPr/>
        </p:nvSpPr>
        <p:spPr>
          <a:xfrm>
            <a:off x="15080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9"/>
          <p:cNvSpPr/>
          <p:nvPr/>
        </p:nvSpPr>
        <p:spPr>
          <a:xfrm>
            <a:off x="1447920" y="556272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 O’Brien, J. K. “The Benchmarking of Residential Solid Waste Collection Service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SW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ept/Oct 2007, pp 12 – 2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6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mercial Waste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chanically front loa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ist tru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sh Tra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ont Loading Compac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5" descr="F364"/>
          <p:cNvPicPr/>
          <p:nvPr/>
        </p:nvPicPr>
        <p:blipFill>
          <a:blip r:embed="rId2"/>
          <a:stretch/>
        </p:blipFill>
        <p:spPr>
          <a:xfrm>
            <a:off x="533520" y="1981080"/>
            <a:ext cx="4495680" cy="301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eterbilt garbage truck"/>
          <p:cNvPicPr/>
          <p:nvPr/>
        </p:nvPicPr>
        <p:blipFill>
          <a:blip r:embed="rId3"/>
          <a:stretch/>
        </p:blipFill>
        <p:spPr>
          <a:xfrm>
            <a:off x="4038480" y="3276720"/>
            <a:ext cx="4191120" cy="306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BANNER7672-ATME Logo Banner 1600 x 380.jpg"/>
          <p:cNvPicPr/>
          <p:nvPr/>
        </p:nvPicPr>
        <p:blipFill>
          <a:blip r:embed="rId4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5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79" name="Google Shape;55;p13" descr=""/>
          <p:cNvPicPr/>
          <p:nvPr/>
        </p:nvPicPr>
        <p:blipFill>
          <a:blip r:embed="rId6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7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TF1A"/>
          <p:cNvPicPr/>
          <p:nvPr/>
        </p:nvPicPr>
        <p:blipFill>
          <a:blip r:embed="rId1"/>
          <a:srcRect l="40271" t="0" r="17567" b="0"/>
          <a:stretch/>
        </p:blipFill>
        <p:spPr>
          <a:xfrm>
            <a:off x="0" y="0"/>
            <a:ext cx="4124160" cy="5181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40%20yard"/>
          <p:cNvPicPr/>
          <p:nvPr/>
        </p:nvPicPr>
        <p:blipFill>
          <a:blip r:embed="rId2"/>
          <a:stretch/>
        </p:blipFill>
        <p:spPr>
          <a:xfrm>
            <a:off x="3962520" y="3098880"/>
            <a:ext cx="5181480" cy="3454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85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with Recyc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mixed MSW with sorting at MRF (single stre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separated recyclables and MSW(dual stre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sorting of recyclables at M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sorting at point of collection (multi-compartment truc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separate yard w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gs, bins, or carts (require autom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cuum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al compartment collection vehi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bside collection costs are $15/ton lower for single-stream than for sepa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9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ycling Haul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450800" y="2835360"/>
            <a:ext cx="6242040" cy="1189080"/>
            <a:chOff x="1450800" y="2835360"/>
            <a:chExt cx="6242040" cy="1189080"/>
          </a:xfrm>
        </p:grpSpPr>
        <p:sp>
          <p:nvSpPr>
            <p:cNvPr id="195" name="Rectangle 15"/>
            <p:cNvSpPr/>
            <p:nvPr/>
          </p:nvSpPr>
          <p:spPr>
            <a:xfrm>
              <a:off x="1450800" y="2835360"/>
              <a:ext cx="5657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1450800" y="2835360"/>
              <a:ext cx="6242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d4d4d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Picture 23" descr="SMLL_Labrie_TopSelect"/>
          <p:cNvPicPr/>
          <p:nvPr/>
        </p:nvPicPr>
        <p:blipFill>
          <a:blip r:embed="rId2"/>
          <a:stretch/>
        </p:blipFill>
        <p:spPr>
          <a:xfrm>
            <a:off x="0" y="1752480"/>
            <a:ext cx="5853240" cy="39099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2"/>
          <p:cNvGrpSpPr/>
          <p:nvPr/>
        </p:nvGrpSpPr>
        <p:grpSpPr>
          <a:xfrm>
            <a:off x="0" y="2720880"/>
            <a:ext cx="18288000" cy="360"/>
            <a:chOff x="0" y="2720880"/>
            <a:chExt cx="18288000" cy="360"/>
          </a:xfrm>
        </p:grpSpPr>
        <p:sp>
          <p:nvSpPr>
            <p:cNvPr id="199" name="Rectangle 31"/>
            <p:cNvSpPr/>
            <p:nvPr/>
          </p:nvSpPr>
          <p:spPr>
            <a:xfrm>
              <a:off x="0" y="2720880"/>
              <a:ext cx="1828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0" y="2720880"/>
              <a:ext cx="1828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Picture 28" descr="recyclers_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lit Body Rear Loa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Formula 4060 Split Body"/>
          <p:cNvPicPr/>
          <p:nvPr/>
        </p:nvPicPr>
        <p:blipFill>
          <a:blip r:embed="rId1"/>
          <a:stretch/>
        </p:blipFill>
        <p:spPr>
          <a:xfrm>
            <a:off x="1447920" y="1905120"/>
            <a:ext cx="6835680" cy="450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114480"/>
            <a:ext cx="125568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3"/>
          <a:stretch/>
        </p:blipFill>
        <p:spPr>
          <a:xfrm>
            <a:off x="5283360" y="11592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06" name="Google Shape;55;p13" descr=""/>
          <p:cNvPicPr/>
          <p:nvPr/>
        </p:nvPicPr>
        <p:blipFill>
          <a:blip r:embed="rId4"/>
          <a:stretch/>
        </p:blipFill>
        <p:spPr>
          <a:xfrm>
            <a:off x="6438960" y="147600"/>
            <a:ext cx="455400" cy="42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5"/>
          <a:stretch/>
        </p:blipFill>
        <p:spPr>
          <a:xfrm>
            <a:off x="7696080" y="128520"/>
            <a:ext cx="609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acuum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3" descr="231d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Fig_350-2"/>
          <p:cNvPicPr/>
          <p:nvPr/>
        </p:nvPicPr>
        <p:blipFill>
          <a:blip r:embed="rId2"/>
          <a:stretch/>
        </p:blipFill>
        <p:spPr>
          <a:xfrm>
            <a:off x="4495680" y="3621240"/>
            <a:ext cx="4270320" cy="259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13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Op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Exclusive Franch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lusive Franch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19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problems and concerns associated with MSW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and contrast privately and publicly operated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types of collec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benefits associated with the use of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e an economic analysis of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design issues associated with transfer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0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b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 int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or unski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turn-over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w prospects for mechanical replacement of manual lab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ies and poor working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career opportun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2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stomer Serv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quency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 and storage issues particularly for commercial and indus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 of pick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wa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3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ement and Financing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ri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ance to change and new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qual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ing with new regu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3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ological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recyclables, yard waste, special wa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ard waste containers - bagged material must be debagged prior to comp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coll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efficien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hicle weight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hicle turning radius and clea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4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sons for declining collection frequency inclu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tion of putrescible waste declined (food grind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design of collection vehicles controls odors and f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sts in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between collection and disposal de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ut for 1/wk = 97%, 2/wk = 6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3816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5283360" y="3960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49" name="Google Shape;55;p13" descr=""/>
          <p:cNvPicPr/>
          <p:nvPr/>
        </p:nvPicPr>
        <p:blipFill>
          <a:blip r:embed="rId3"/>
          <a:stretch/>
        </p:blipFill>
        <p:spPr>
          <a:xfrm>
            <a:off x="6438960" y="71280"/>
            <a:ext cx="455400" cy="428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4"/>
          <a:stretch/>
        </p:blipFill>
        <p:spPr>
          <a:xfrm>
            <a:off x="7696080" y="5256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most dangerous job behind fishing and timber cu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s off tru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by c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ppropriate disposal of wa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ting inju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5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xed Factors Affecting Design and C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- container access (alley, curbside, rear of ho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le transportation systems, traffic, roads (Venice uses boa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wastes col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density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6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ariable Factors Affecting Design and C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age techniques employ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6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1143000"/>
            <a:ext cx="1528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 =  a + b + c(d) + e + f +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   =     total collection tim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=     garage to route tim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=     actual time collecting wast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=     number of trips to disposal site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   =     time to drive fully loaded truck to disposal fac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ad and return to collection area/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   =     time to drive to garage at the end of the trip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+ g   =    off route time, can be expressed as a fraction of Y/day o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Cost Calc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7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447920" y="2057400"/>
            <a:ext cx="97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SF/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 =     number of vehicl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    =     total number of customers served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=     collectio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=      number of customers truck can serve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   =      number of work days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ction Cost Calculations - Cont’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279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218960" y="2133720"/>
            <a:ext cx="587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ection account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0% of a SW budg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2garb1"/>
          <p:cNvPicPr/>
          <p:nvPr/>
        </p:nvPicPr>
        <p:blipFill>
          <a:blip r:embed="rId1"/>
          <a:stretch/>
        </p:blipFill>
        <p:spPr>
          <a:xfrm>
            <a:off x="4343400" y="39625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1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auled Container Sys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523880" y="3429000"/>
            <a:ext cx="60984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1460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50532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572000" y="3429000"/>
            <a:ext cx="60948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5638680" y="3429000"/>
            <a:ext cx="609840" cy="533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3429000" y="5562720"/>
            <a:ext cx="114300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165640" y="5451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sal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649960" y="2556000"/>
            <a:ext cx="33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ntainers 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below:  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1752480" y="3962520"/>
            <a:ext cx="19051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 flipV="1">
            <a:off x="1905120" y="3962160"/>
            <a:ext cx="18288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2743200" y="4038480"/>
            <a:ext cx="106668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886200" y="4038480"/>
            <a:ext cx="15228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90760" y="3962520"/>
            <a:ext cx="60948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4495680" y="3962520"/>
            <a:ext cx="15242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 flipH="1" flipV="1">
            <a:off x="2895480" y="4038480"/>
            <a:ext cx="9907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3733560" y="3962160"/>
            <a:ext cx="2286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4343400" y="3962160"/>
            <a:ext cx="60948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4572000" y="4038480"/>
            <a:ext cx="152388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21337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3124080" y="3657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41148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>
            <a:off x="5181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475680" y="3124080"/>
            <a:ext cx="242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dbc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30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turn to Home p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1027">
            <a:hlinkClick r:id="rId1"/>
          </p:cNvPr>
          <p:cNvSpPr/>
          <p:nvPr/>
        </p:nvSpPr>
        <p:spPr>
          <a:xfrm>
            <a:off x="3809880" y="3352680"/>
            <a:ext cx="1447920" cy="1143000"/>
          </a:xfrm>
          <a:prstGeom prst="leftArrow">
            <a:avLst>
              <a:gd name="adj1" fmla="val 50000"/>
              <a:gd name="adj2" fmla="val 31669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3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313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s of Waste Collection Sys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use Collection Systems (residenti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rcial Waste Coll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able Material Coll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9,000 trucks in the US (most diesel powe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1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fuse Collection (Residential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onary container emptied into tru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injury rates (heavy containers, broken glass/sharp obje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 containers that fall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2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r Loading Compac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7" descr="2RII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07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stock1316"/>
          <p:cNvPicPr/>
          <p:nvPr/>
        </p:nvPicPr>
        <p:blipFill>
          <a:blip r:embed="rId2"/>
          <a:srcRect l="5556" t="14105" r="13335" b="50005"/>
          <a:stretch/>
        </p:blipFill>
        <p:spPr>
          <a:xfrm>
            <a:off x="3276720" y="3505320"/>
            <a:ext cx="5181480" cy="2981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de Loa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Side Loaders, Side Loader, Side Loader Garbage Trucks"/>
          <p:cNvPicPr/>
          <p:nvPr/>
        </p:nvPicPr>
        <p:blipFill>
          <a:blip r:embed="rId3"/>
          <a:stretch/>
        </p:blipFill>
        <p:spPr>
          <a:xfrm>
            <a:off x="685800" y="1981080"/>
            <a:ext cx="3429000" cy="221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BANNER7672-ATME Logo Banner 1600 x 380.jpg"/>
          <p:cNvPicPr/>
          <p:nvPr/>
        </p:nvPicPr>
        <p:blipFill>
          <a:blip r:embed="rId4"/>
          <a:stretch/>
        </p:blipFill>
        <p:spPr>
          <a:xfrm>
            <a:off x="304920" y="7632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5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37" name="Google Shape;55;p13" descr=""/>
          <p:cNvPicPr/>
          <p:nvPr/>
        </p:nvPicPr>
        <p:blipFill>
          <a:blip r:embed="rId6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7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tomatic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only one driver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be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on-street parking, low hanging wires, narrow str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commitment to preventa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commitment to educating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-90 gal contai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3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4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tomated Colle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automated_ydwst_wb"/>
          <p:cNvPicPr/>
          <p:nvPr/>
        </p:nvPicPr>
        <p:blipFill>
          <a:blip r:embed="rId1"/>
          <a:stretch/>
        </p:blipFill>
        <p:spPr>
          <a:xfrm>
            <a:off x="1600200" y="1905120"/>
            <a:ext cx="3886200" cy="3378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4282004_30759_0"/>
          <p:cNvPicPr/>
          <p:nvPr/>
        </p:nvPicPr>
        <p:blipFill>
          <a:blip r:embed="rId2"/>
          <a:stretch/>
        </p:blipFill>
        <p:spPr>
          <a:xfrm>
            <a:off x="5410080" y="3352680"/>
            <a:ext cx="2867040" cy="293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1255680" cy="495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536400" cy="460440"/>
          </a:xfrm>
          <a:prstGeom prst="rect">
            <a:avLst/>
          </a:prstGeom>
          <a:ln w="0">
            <a:noFill/>
          </a:ln>
        </p:spPr>
      </p:pic>
      <p:pic>
        <p:nvPicPr>
          <p:cNvPr id="150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455400" cy="42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609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00:17:53Z</dcterms:created>
  <dc:creator>Dr. Ron Eaglin</dc:creator>
  <dc:description/>
  <dc:language>en-US</dc:language>
  <cp:lastModifiedBy>user</cp:lastModifiedBy>
  <dcterms:modified xsi:type="dcterms:W3CDTF">2022-04-27T05:53:25Z</dcterms:modified>
  <cp:revision>20</cp:revision>
  <dc:subject/>
  <dc:title>Waste Collection  </dc:title>
</cp:coreProperties>
</file>